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ffjudo"/>
          <p:cNvPicPr/>
          <p:nvPr/>
        </p:nvPicPr>
        <p:blipFill>
          <a:blip r:embed="rId3"/>
          <a:stretch/>
        </p:blipFill>
        <p:spPr>
          <a:xfrm>
            <a:off x="8244000" y="189000"/>
            <a:ext cx="504720" cy="7189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9"/>
          <p:cNvSpPr/>
          <p:nvPr/>
        </p:nvSpPr>
        <p:spPr>
          <a:xfrm>
            <a:off x="2771640" y="6550200"/>
            <a:ext cx="38959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départemen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6804000" y="6541920"/>
            <a:ext cx="1905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70DE-F16E-4A0E-BA19-E3E300B6AFFC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2"/>
          <p:cNvSpPr/>
          <p:nvPr/>
        </p:nvSpPr>
        <p:spPr>
          <a:xfrm>
            <a:off x="900000" y="26028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Comité Départemental de Loire Atlan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logo_cd44"/>
          <p:cNvPicPr/>
          <p:nvPr/>
        </p:nvPicPr>
        <p:blipFill>
          <a:blip r:embed="rId4"/>
          <a:stretch/>
        </p:blipFill>
        <p:spPr>
          <a:xfrm>
            <a:off x="324000" y="260280"/>
            <a:ext cx="726840" cy="67968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7"/>
          <p:cNvSpPr/>
          <p:nvPr/>
        </p:nvSpPr>
        <p:spPr>
          <a:xfrm>
            <a:off x="290520" y="6550200"/>
            <a:ext cx="190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06/10/20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95280" y="2565360"/>
            <a:ext cx="845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0000"/>
                </a:solidFill>
                <a:latin typeface="Arial Black"/>
              </a:rPr>
              <a:t>Présentation de la commis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826920" y="9079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omic Sans MS"/>
              </a:rPr>
              <a:t>Présentation de la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24000" y="1484280"/>
            <a:ext cx="8642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présentant de la CDA au Comité Directeu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chel BERTHIE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rbitre 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ff0000"/>
              </a:buClr>
              <a:buFont typeface="Wingdings" charset="2"/>
              <a:buChar char="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eur des arbitr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udovic BARTH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rbitre 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ff0000"/>
              </a:buClr>
              <a:buFont typeface="Wingdings" charset="2"/>
              <a:buChar char="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rice des Commissaires Spor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éline RONTAR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S. 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tabLst>
                <a:tab algn="l" pos="0"/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ff0000"/>
              </a:buClr>
              <a:buFont typeface="Wingdings" charset="2"/>
              <a:buChar char="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missaires Sportifs membre de la commission d’arbitrag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mi VIALETT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S. 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rélie GICQUEL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S. Interli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athalie ROUINSAR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S. National Judo/Jujit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entin CHAPELE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S. Interli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entin MICH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S. Interli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502920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lorian LUC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S. Ré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31920" y="2720880"/>
            <a:ext cx="84596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ff0000"/>
              </a:buClr>
              <a:buFont typeface="Wingdings" charset="2"/>
              <a:buChar char=""/>
              <a:tabLst>
                <a:tab algn="l" pos="2158920"/>
                <a:tab algn="l" pos="421632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Samedi 08 Octobre 2022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e 14h à 17h au Croiss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2158920"/>
                <a:tab algn="l" pos="421632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2158920"/>
                <a:tab algn="l" pos="421632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2158920"/>
                <a:tab algn="l" pos="421632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0000"/>
              </a:buClr>
              <a:buFont typeface="Wingdings" charset="2"/>
              <a:buChar char=""/>
              <a:tabLst>
                <a:tab algn="l" pos="2158920"/>
                <a:tab algn="l" pos="421632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Dimanche 06 Novembre 2022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e 09h à 12h au Croiss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2158920"/>
                <a:tab algn="l" pos="421632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826920" y="11970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omic Sans MS"/>
              </a:rPr>
              <a:t>Planning des stages de rentr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7200" y="1773360"/>
            <a:ext cx="8207280" cy="52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amedi 22 Octobre 202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14h00 à 17h00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roiss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GAGEMENTS, NOTATIONS, PES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manche 13 Novembre 202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09h00 à 12h00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roiss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TABLEAUX et REPECHAG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amedi 3 Décembre 202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4h00 à 17h00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roiss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POULES, Relation 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manche 26 Mars 2023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à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5h30 au Croiss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499"/>
              </a:spcAft>
              <a:tabLst>
                <a:tab algn="l" pos="0"/>
                <a:tab algn="l" pos="215892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amen Ecrit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note minimale: 14/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826920" y="112536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Planning des stages Judo Ecole C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4360" y="1844640"/>
            <a:ext cx="7775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rée de la formation: 3 années consécutiv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Tolérance évidente suite à la situation sani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ligation de suivre le stage de rentrée dés la 2° an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lider l’éc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 stages écol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note minimale de 12/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gagements, Notations, Pe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bleaux et repêch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les et relation grade/Champion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ame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note minimale de 14/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lider la pr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</a:rPr>
              <a:t>4 pratiqu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valid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826920" y="11970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La Formation des C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826920" y="117144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Coupe des Jeunes Commissaires Spor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76120" y="2155680"/>
            <a:ext cx="8569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CADETS/Cadettes…………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Dimanche 04 Décembre 20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ur le championnat min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76120" y="3716280"/>
            <a:ext cx="8569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Minimes      …………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amedi 01 Avril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ur le championnat Benja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76120" y="1413000"/>
            <a:ext cx="8569440" cy="51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5000"/>
              </a:lnSpc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C.S. exerce un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fonction fédérale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fficielle et doit être </a:t>
            </a: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licenci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C.S. doit se présenter au moins </a:t>
            </a: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30 mn avan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le début de la 1° pesée, auprès du responsable des C.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spcAft>
                <a:spcPts val="561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C.S doit se présenter avec une </a:t>
            </a: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tenue correcte</a:t>
            </a:r>
            <a:br>
              <a:rPr sz="2000"/>
            </a:br>
            <a:r>
              <a:rPr b="1" lang="fr-FR" sz="1800" spc="-1" strike="noStrike" u="sng">
                <a:solidFill>
                  <a:srgbClr val="0d0d0d"/>
                </a:solidFill>
                <a:uFillTx/>
                <a:latin typeface="Comic Sans MS"/>
              </a:rPr>
              <a:t>Bas de pantalon Noire (non troué) et haut rouge ou blanc </a:t>
            </a:r>
            <a:r>
              <a:rPr b="1" lang="fr-FR" sz="1800" spc="-1" strike="noStrike" u="sng">
                <a:solidFill>
                  <a:srgbClr val="ff0000"/>
                </a:solidFill>
                <a:uFillTx/>
                <a:latin typeface="Comic Sans MS"/>
              </a:rPr>
              <a:t>EXIG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C.S doit venir équipé : stylo (bleu ou noir), souris correctrice, surligneur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Pas de téléphone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à la table des commissaires sport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C.S. </a:t>
            </a: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installe et vérifi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le matériel  en début de manife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C.S </a:t>
            </a: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rang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le matériel de son tap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spcAft>
                <a:spcPts val="624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C.S  n’est </a:t>
            </a: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pas autoris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à quitter la compétition sans en avoir informé au préalable le responsable des 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826920" y="9079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omic Sans MS"/>
              </a:rPr>
              <a:t>Les devoirs du Commissaire Sporti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5316480" y="2300400"/>
            <a:ext cx="285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Aft>
                <a:spcPts val="624"/>
              </a:spcAft>
              <a:tabLst>
                <a:tab algn="l" pos="0"/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000" spc="-1" strike="noStrike">
                <a:solidFill>
                  <a:srgbClr val="0066ff"/>
                </a:solidFill>
                <a:latin typeface="Comic Sans MS"/>
              </a:rPr>
              <a:t>avec son passeport 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826920" y="9079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omic Sans MS"/>
              </a:rPr>
              <a:t>L’évolution du commissaire spor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276120" y="1700280"/>
            <a:ext cx="85694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5000"/>
              </a:lnSpc>
              <a:spcAft>
                <a:spcPts val="499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Le titre départemental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La thé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La pr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287280" y="2955960"/>
            <a:ext cx="856944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5000"/>
              </a:lnSpc>
              <a:spcAft>
                <a:spcPts val="499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Le titre régional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Volonté du CS départeme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Validation en fin de sa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Stagiaire avec évaluation sur 1 ou 2 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72880" y="4581360"/>
            <a:ext cx="85694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5000"/>
              </a:lnSpc>
              <a:spcAft>
                <a:spcPts val="499"/>
              </a:spcAft>
              <a:buClr>
                <a:srgbClr val="ff0000"/>
              </a:buClr>
              <a:buFont typeface="Wingdings" charset="2"/>
              <a:buChar char="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Le titre national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Volonté du CS rég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1523880"/>
                <a:tab algn="l" pos="2425680"/>
                <a:tab algn="l" pos="394956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Validation par le responsable départemental et rég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34:05Z</dcterms:created>
  <dc:creator>JYAV5372</dc:creator>
  <dc:description/>
  <dc:language>en-US</dc:language>
  <cp:lastModifiedBy>VIALETTE Remi UPR O/APR</cp:lastModifiedBy>
  <dcterms:modified xsi:type="dcterms:W3CDTF">2023-02-25T21:10:26Z</dcterms:modified>
  <cp:revision>172</cp:revision>
  <dc:subject>diaporama de formation des comissaires sportifs judo</dc:subject>
  <dc:title>somma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tination">
    <vt:lpwstr>Comissaires sportifs Judo</vt:lpwstr>
  </property>
  <property fmtid="{D5CDD505-2E9C-101B-9397-08002B2CF9AE}" pid="3" name="MSIP_Label_07222825-62ea-40f3-96b5-5375c07996e2_ActionId">
    <vt:lpwstr>82352208-8f02-41e4-8093-4fdef7301305</vt:lpwstr>
  </property>
  <property fmtid="{D5CDD505-2E9C-101B-9397-08002B2CF9AE}" pid="4" name="MSIP_Label_07222825-62ea-40f3-96b5-5375c07996e2_ContentBits">
    <vt:lpwstr>0</vt:lpwstr>
  </property>
  <property fmtid="{D5CDD505-2E9C-101B-9397-08002B2CF9AE}" pid="5" name="MSIP_Label_07222825-62ea-40f3-96b5-5375c07996e2_Enabled">
    <vt:lpwstr>true</vt:lpwstr>
  </property>
  <property fmtid="{D5CDD505-2E9C-101B-9397-08002B2CF9AE}" pid="6" name="MSIP_Label_07222825-62ea-40f3-96b5-5375c07996e2_Method">
    <vt:lpwstr>Privileged</vt:lpwstr>
  </property>
  <property fmtid="{D5CDD505-2E9C-101B-9397-08002B2CF9AE}" pid="7" name="MSIP_Label_07222825-62ea-40f3-96b5-5375c07996e2_Name">
    <vt:lpwstr>unrestricted_parent.2</vt:lpwstr>
  </property>
  <property fmtid="{D5CDD505-2E9C-101B-9397-08002B2CF9AE}" pid="8" name="MSIP_Label_07222825-62ea-40f3-96b5-5375c07996e2_SetDate">
    <vt:lpwstr>2023-02-25T20:38:07Z</vt:lpwstr>
  </property>
  <property fmtid="{D5CDD505-2E9C-101B-9397-08002B2CF9AE}" pid="9" name="MSIP_Label_07222825-62ea-40f3-96b5-5375c07996e2_SiteId">
    <vt:lpwstr>90c7a20a-f34b-40bf-bc48-b9253b6f5d20</vt:lpwstr>
  </property>
  <property fmtid="{D5CDD505-2E9C-101B-9397-08002B2CF9AE}" pid="10" name="Propriétaire">
    <vt:lpwstr>Jean Claude VIALETTE</vt:lpwstr>
  </property>
</Properties>
</file>