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fond écr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fjudo"/>
          <p:cNvPicPr/>
          <p:nvPr/>
        </p:nvPicPr>
        <p:blipFill>
          <a:blip r:embed="rId3"/>
          <a:stretch/>
        </p:blipFill>
        <p:spPr>
          <a:xfrm>
            <a:off x="8244000" y="189000"/>
            <a:ext cx="50472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290520" y="6513480"/>
            <a:ext cx="19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21/10/2022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124080" y="6513480"/>
            <a:ext cx="3608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Formation des commissaires sportifs départementaux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6804000" y="6480000"/>
            <a:ext cx="1905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9AC8-9F89-44A4-9B28-942859311DCA}" type="slidenum">
              <a:rPr b="1" lang="fr-FR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1143000" y="2095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ahoma"/>
              </a:rPr>
              <a:t>Ligue de judo des Pays de la Loi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900000" y="476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ison 2022 – 202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" name="Picture 22" descr="logo_ligue"/>
          <p:cNvPicPr/>
          <p:nvPr/>
        </p:nvPicPr>
        <p:blipFill>
          <a:blip r:embed="rId4"/>
          <a:stretch/>
        </p:blipFill>
        <p:spPr>
          <a:xfrm>
            <a:off x="324000" y="189000"/>
            <a:ext cx="59688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95280" y="256536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L’Engagement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99"/>
                </a:solidFill>
                <a:latin typeface="Arial Black"/>
              </a:rPr>
              <a:t>Des compétiteur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08000" y="1052640"/>
            <a:ext cx="89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</a:rPr>
              <a:t>L’organisation à la pesé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95280" y="170028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6040" indent="-3571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6699"/>
                </a:solidFill>
                <a:uFillTx/>
                <a:latin typeface="Verdana"/>
              </a:rPr>
              <a:t>Les combattants à la pesé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Chaque pesée sera organisée de cette façon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187280" y="2565360"/>
            <a:ext cx="165600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estiaires 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635280" y="2565360"/>
            <a:ext cx="165744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estiaires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6156360" y="2565360"/>
            <a:ext cx="165564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estiaires 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258920" y="4292640"/>
            <a:ext cx="1441440" cy="287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ble 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3743280" y="4292640"/>
            <a:ext cx="1441440" cy="287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ble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6264360" y="4292640"/>
            <a:ext cx="1439640" cy="287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ble 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68360" y="4869000"/>
            <a:ext cx="8207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720720" indent="-3618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Un combattant par table (en sous-vêtement), les autres attendent dans le vestiair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3" marL="720720" indent="-3618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99"/>
                </a:solidFill>
                <a:latin typeface="Verdana"/>
              </a:rPr>
              <a:t>Pas d’affaires ou de sac en dehors des vestiai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33280" y="1557360"/>
            <a:ext cx="867564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Respe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Soyez Courtois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Un petit sourir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Bonjour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99"/>
                </a:solidFill>
                <a:latin typeface="Verdana"/>
              </a:rPr>
              <a:t>Bonne journée/compétition, ..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Tout écart constaté ou simple question/doute par le Commissaire Sportif doit être 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signalé/discuter 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avec le 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Verdana"/>
              </a:rPr>
              <a:t>responsable de pesée</a:t>
            </a: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99"/>
                </a:solidFill>
                <a:latin typeface="Verdana"/>
              </a:rPr>
              <a:t>Seul le responsable de la manifestation est habilité à prendre une décis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  <a:ea typeface="Verdana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1"/>
          <p:cNvSpPr/>
          <p:nvPr/>
        </p:nvSpPr>
        <p:spPr>
          <a:xfrm>
            <a:off x="1187280" y="981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Verdana"/>
                <a:ea typeface="Verdana"/>
              </a:rPr>
              <a:t>Inscription Extrane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108000" y="1733400"/>
            <a:ext cx="8928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 Black"/>
              </a:rPr>
              <a:t>Pesée informatisée dans la plupart des ca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Ordinateur sur chaque poste de pesée avec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810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a liste des inscrit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810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a possibilité de rechercher le no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810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a possibilité de saisir/modifier les information de la pesé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 Black"/>
              </a:rPr>
              <a:t>Tableau pré-remplie avec liste des inscrits par Extrane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Votre rôle sera de contrôler </a:t>
            </a:r>
            <a:r>
              <a:rPr b="0" i="1" lang="fr-FR" sz="1600" spc="-1" strike="noStrike">
                <a:solidFill>
                  <a:srgbClr val="000000"/>
                </a:solidFill>
                <a:latin typeface="Arial Black"/>
              </a:rPr>
              <a:t>(principalement)</a:t>
            </a: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’année de licence d’une année précédent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810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 Black"/>
              </a:rPr>
              <a:t>Le fait d’être sur la liste valide la licence de l’année en cour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e grade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La date de naissance (</a:t>
            </a:r>
            <a:r>
              <a:rPr b="0" i="1" lang="fr-FR" sz="1600" spc="-1" strike="noStrike">
                <a:solidFill>
                  <a:srgbClr val="000000"/>
                </a:solidFill>
                <a:latin typeface="Arial Black"/>
              </a:rPr>
              <a:t>vérifier la catégorie d’âge</a:t>
            </a: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628560" indent="-350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34:05Z</dcterms:created>
  <dc:creator>JYAV5372</dc:creator>
  <dc:description/>
  <dc:language>en-US</dc:language>
  <cp:lastModifiedBy>VIALETTE Remi UPR O/APR</cp:lastModifiedBy>
  <dcterms:modified xsi:type="dcterms:W3CDTF">2023-02-25T20:37:54Z</dcterms:modified>
  <cp:revision>128</cp:revision>
  <dc:subject>diaporama de formation des comissaires sportifs judo</dc:subject>
  <dc:title>somma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tion">
    <vt:lpwstr>Comissaires sportifs Judo</vt:lpwstr>
  </property>
  <property fmtid="{D5CDD505-2E9C-101B-9397-08002B2CF9AE}" pid="3" name="MSIP_Label_07222825-62ea-40f3-96b5-5375c07996e2_ActionId">
    <vt:lpwstr>63152c83-d984-4df0-a04f-321d25736913</vt:lpwstr>
  </property>
  <property fmtid="{D5CDD505-2E9C-101B-9397-08002B2CF9AE}" pid="4" name="MSIP_Label_07222825-62ea-40f3-96b5-5375c07996e2_ContentBits">
    <vt:lpwstr>0</vt:lpwstr>
  </property>
  <property fmtid="{D5CDD505-2E9C-101B-9397-08002B2CF9AE}" pid="5" name="MSIP_Label_07222825-62ea-40f3-96b5-5375c07996e2_Enabled">
    <vt:lpwstr>true</vt:lpwstr>
  </property>
  <property fmtid="{D5CDD505-2E9C-101B-9397-08002B2CF9AE}" pid="6" name="MSIP_Label_07222825-62ea-40f3-96b5-5375c07996e2_Method">
    <vt:lpwstr>Privileged</vt:lpwstr>
  </property>
  <property fmtid="{D5CDD505-2E9C-101B-9397-08002B2CF9AE}" pid="7" name="MSIP_Label_07222825-62ea-40f3-96b5-5375c07996e2_Name">
    <vt:lpwstr>unrestricted_parent.2</vt:lpwstr>
  </property>
  <property fmtid="{D5CDD505-2E9C-101B-9397-08002B2CF9AE}" pid="8" name="MSIP_Label_07222825-62ea-40f3-96b5-5375c07996e2_SetDate">
    <vt:lpwstr>2023-02-25T20:37:50Z</vt:lpwstr>
  </property>
  <property fmtid="{D5CDD505-2E9C-101B-9397-08002B2CF9AE}" pid="9" name="MSIP_Label_07222825-62ea-40f3-96b5-5375c07996e2_SiteId">
    <vt:lpwstr>90c7a20a-f34b-40bf-bc48-b9253b6f5d20</vt:lpwstr>
  </property>
  <property fmtid="{D5CDD505-2E9C-101B-9397-08002B2CF9AE}" pid="10" name="Propriétaire">
    <vt:lpwstr>Jean Claude VIALETTE</vt:lpwstr>
  </property>
</Properties>
</file>