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16F7-1CAD-4694-9010-DBA8803DD3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5D1B-6578-4BFE-A9D4-D5566B54B5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D7CD-9E03-4B4D-BD7F-246B622C2A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rapide de l’apparence du tableau principale et du repêchages diapo suiv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ien expliquer que le mode de fonctionnement est presque plus simple et qu’il suffit de suivre le numéro des comb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32F9-59AA-4B37-BE14-0EEC4141A7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C655-5524-4740-AB4E-2B3E9FBB62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but des explications sur le fonctionnement du tabl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pliquer également qu’il est possible qu’il n’y est pas 32 combattants mais 30 par exemple et que 2 d’entre eux sautent un tour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B272-9201-40A4-92E2-A2B4F8E06A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 qui nous donne après le premier tour les 16 combattants ayant perdu leur premier comb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re attention à ne pas enchainer sur les repêchages mais sur le combat numéro 17 qui est le 2</a:t>
            </a:r>
            <a:r>
              <a:rPr b="0" lang="fr-FR" sz="1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our du tableau principale (voir diapo suiv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3D1E-3E23-4835-A9B3-EED7C488C7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 pas hésiter à rappeler que pour chaque combat (sauf la finale) &gt;&gt;&gt; un combat = un repêché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93" descr="fond écr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96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397"/>
          <p:cNvSpPr/>
          <p:nvPr/>
        </p:nvSpPr>
        <p:spPr>
          <a:xfrm>
            <a:off x="290520" y="6486480"/>
            <a:ext cx="19051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403" descr="logo_ligue"/>
          <p:cNvPicPr/>
          <p:nvPr/>
        </p:nvPicPr>
        <p:blipFill>
          <a:blip r:embed="rId4"/>
          <a:stretch/>
        </p:blipFill>
        <p:spPr>
          <a:xfrm>
            <a:off x="324000" y="189000"/>
            <a:ext cx="596880" cy="736560"/>
          </a:xfrm>
          <a:prstGeom prst="rect">
            <a:avLst/>
          </a:prstGeom>
          <a:ln w="0">
            <a:noFill/>
          </a:ln>
        </p:spPr>
      </p:pic>
      <p:sp>
        <p:nvSpPr>
          <p:cNvPr id="4" name="Text Box 19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(En-têtes)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0"/>
          <p:cNvSpPr/>
          <p:nvPr/>
        </p:nvSpPr>
        <p:spPr>
          <a:xfrm>
            <a:off x="984240" y="5317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6804000" y="6453360"/>
            <a:ext cx="1905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0E62-D5A4-4F6A-96FD-753BA4986843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1"/>
          <p:cNvSpPr/>
          <p:nvPr/>
        </p:nvSpPr>
        <p:spPr>
          <a:xfrm>
            <a:off x="2771640" y="6499080"/>
            <a:ext cx="38959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2.png"/><Relationship Id="rId3" Type="http://schemas.openxmlformats.org/officeDocument/2006/relationships/image" Target="../media/image41.png"/><Relationship Id="rId4" Type="http://schemas.openxmlformats.org/officeDocument/2006/relationships/image" Target="../media/image40.png"/><Relationship Id="rId5" Type="http://schemas.openxmlformats.org/officeDocument/2006/relationships/image" Target="../media/image39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125892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9999"/>
                </a:solidFill>
                <a:latin typeface="Verdana"/>
              </a:rPr>
              <a:t>Le Repêchage Systém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4"/>
          <p:cNvSpPr/>
          <p:nvPr/>
        </p:nvSpPr>
        <p:spPr>
          <a:xfrm>
            <a:off x="0" y="1628640"/>
            <a:ext cx="9144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us simple d’utilisation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gique de fonctionnement et de déroulement des combats plus cl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combattant fait au moins deux comb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chaque combat du tableau principale = un vainqueur et un repê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auf les 2 finalistes chaque combattant apparaitra au moins une fois sur le tableau de repêch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princip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combat à un numéro 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il faut les suivre dans l’or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ur chaque combat le numéro attribué apparait également dans le repêch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perdant du combat numéro 1 sera reporté en face du numéro 1 dans le tableau de repêch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>
            <a:hlinkClick r:id="" action="ppaction://hlinkshowjump?jump=endshow"/>
          </p:cNvPr>
          <p:cNvSpPr/>
          <p:nvPr/>
        </p:nvSpPr>
        <p:spPr>
          <a:xfrm>
            <a:off x="8101080" y="6093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567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6372360" y="692280"/>
            <a:ext cx="12967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½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647040" y="1708200"/>
            <a:ext cx="433080" cy="410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rcRect l="0" t="62" r="0" b="62"/>
          <a:stretch/>
        </p:blipFill>
        <p:spPr>
          <a:xfrm>
            <a:off x="7448400" y="2322360"/>
            <a:ext cx="381240" cy="2894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/>
          <p:cNvPicPr/>
          <p:nvPr/>
        </p:nvPicPr>
        <p:blipFill>
          <a:blip r:embed="rId3"/>
          <a:stretch/>
        </p:blipFill>
        <p:spPr>
          <a:xfrm>
            <a:off x="5948280" y="5661000"/>
            <a:ext cx="385920" cy="93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5940360" y="5641920"/>
            <a:ext cx="432000" cy="1256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8" descr=""/>
          <p:cNvPicPr/>
          <p:nvPr/>
        </p:nvPicPr>
        <p:blipFill>
          <a:blip r:embed="rId4"/>
          <a:stretch/>
        </p:blipFill>
        <p:spPr>
          <a:xfrm>
            <a:off x="5934240" y="1636560"/>
            <a:ext cx="403200" cy="86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9"/>
          <p:cNvSpPr/>
          <p:nvPr/>
        </p:nvSpPr>
        <p:spPr>
          <a:xfrm>
            <a:off x="5919840" y="1611360"/>
            <a:ext cx="431640" cy="12528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6672240" y="3803760"/>
            <a:ext cx="3808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6659640" y="3645000"/>
            <a:ext cx="3808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01040" cy="557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7316640" y="4024440"/>
            <a:ext cx="385920" cy="93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7308720" y="4005360"/>
            <a:ext cx="432000" cy="125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2" descr=""/>
          <p:cNvPicPr/>
          <p:nvPr/>
        </p:nvPicPr>
        <p:blipFill>
          <a:blip r:embed="rId3"/>
          <a:stretch/>
        </p:blipFill>
        <p:spPr>
          <a:xfrm>
            <a:off x="7308720" y="6318360"/>
            <a:ext cx="403200" cy="85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3"/>
          <p:cNvSpPr/>
          <p:nvPr/>
        </p:nvSpPr>
        <p:spPr>
          <a:xfrm>
            <a:off x="7308720" y="6297480"/>
            <a:ext cx="432000" cy="12564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7" descr=""/>
          <p:cNvPicPr/>
          <p:nvPr/>
        </p:nvPicPr>
        <p:blipFill>
          <a:blip r:embed="rId4"/>
          <a:stretch/>
        </p:blipFill>
        <p:spPr>
          <a:xfrm>
            <a:off x="4695840" y="914400"/>
            <a:ext cx="446040" cy="5572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"/>
          <p:cNvPicPr/>
          <p:nvPr/>
        </p:nvPicPr>
        <p:blipFill>
          <a:blip r:embed="rId5"/>
          <a:stretch/>
        </p:blipFill>
        <p:spPr>
          <a:xfrm>
            <a:off x="6002280" y="2965320"/>
            <a:ext cx="414360" cy="3343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"/>
          <p:cNvPicPr/>
          <p:nvPr/>
        </p:nvPicPr>
        <p:blipFill>
          <a:blip r:embed="rId6"/>
          <a:stretch/>
        </p:blipFill>
        <p:spPr>
          <a:xfrm>
            <a:off x="7359480" y="3430440"/>
            <a:ext cx="366840" cy="244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"/>
          <p:cNvPicPr/>
          <p:nvPr/>
        </p:nvPicPr>
        <p:blipFill>
          <a:blip r:embed="rId7"/>
          <a:stretch/>
        </p:blipFill>
        <p:spPr>
          <a:xfrm>
            <a:off x="7377120" y="5705640"/>
            <a:ext cx="366840" cy="244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"/>
          <p:cNvPicPr/>
          <p:nvPr/>
        </p:nvPicPr>
        <p:blipFill>
          <a:blip r:embed="rId8"/>
          <a:stretch/>
        </p:blipFill>
        <p:spPr>
          <a:xfrm>
            <a:off x="7323120" y="4518000"/>
            <a:ext cx="406440" cy="482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2"/>
          <p:cNvSpPr/>
          <p:nvPr/>
        </p:nvSpPr>
        <p:spPr>
          <a:xfrm>
            <a:off x="3635280" y="1773360"/>
            <a:ext cx="13683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tour de repêch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4054320" y="2565360"/>
            <a:ext cx="395280" cy="374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5148360" y="2060640"/>
            <a:ext cx="10792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ce de 7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5361120" y="2781360"/>
            <a:ext cx="377640" cy="3672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6443640" y="2349360"/>
            <a:ext cx="107964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ce de 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7667640" y="2637000"/>
            <a:ext cx="10810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ce de 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6653160" y="3062160"/>
            <a:ext cx="378000" cy="313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7953480" y="3500280"/>
            <a:ext cx="306360" cy="29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567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6659640" y="3803760"/>
            <a:ext cx="39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659640" y="3645000"/>
            <a:ext cx="3808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7448400" y="2320920"/>
            <a:ext cx="381240" cy="2897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7308720" y="3068640"/>
            <a:ext cx="17290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F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47" descr="tableau de 32 - début"/>
          <p:cNvPicPr/>
          <p:nvPr/>
        </p:nvPicPr>
        <p:blipFill>
          <a:blip r:embed="rId1"/>
          <a:stretch/>
        </p:blipFill>
        <p:spPr>
          <a:xfrm>
            <a:off x="539640" y="907920"/>
            <a:ext cx="8136000" cy="556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5" descr="repêchages de 32 -0-"/>
          <p:cNvPicPr/>
          <p:nvPr/>
        </p:nvPicPr>
        <p:blipFill>
          <a:blip r:embed="rId1"/>
          <a:stretch/>
        </p:blipFill>
        <p:spPr>
          <a:xfrm>
            <a:off x="539640" y="907920"/>
            <a:ext cx="8136000" cy="558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tableau de 32 - début"/>
          <p:cNvPicPr/>
          <p:nvPr/>
        </p:nvPicPr>
        <p:blipFill>
          <a:blip r:embed="rId1"/>
          <a:stretch/>
        </p:blipFill>
        <p:spPr>
          <a:xfrm>
            <a:off x="539640" y="907920"/>
            <a:ext cx="8136000" cy="556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932360" y="3068640"/>
            <a:ext cx="3600360" cy="1381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2 combat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16 combats au premier t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4363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/>
          <p:cNvPicPr/>
          <p:nvPr/>
        </p:nvPicPr>
        <p:blipFill>
          <a:blip r:embed="rId3"/>
          <a:stretch/>
        </p:blipFill>
        <p:spPr>
          <a:xfrm>
            <a:off x="3708360" y="907920"/>
            <a:ext cx="5435640" cy="5567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908000" y="549360"/>
            <a:ext cx="1511640" cy="459720"/>
          </a:xfrm>
          <a:prstGeom prst="rect">
            <a:avLst/>
          </a:prstGeom>
          <a:solidFill>
            <a:srgbClr val="ff0000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T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411280" y="5116680"/>
            <a:ext cx="43200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411280" y="3753000"/>
            <a:ext cx="432000" cy="136836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411280" y="2386080"/>
            <a:ext cx="432000" cy="136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411280" y="1017720"/>
            <a:ext cx="432000" cy="1368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1" descr=""/>
          <p:cNvPicPr/>
          <p:nvPr/>
        </p:nvPicPr>
        <p:blipFill>
          <a:blip r:embed="rId4"/>
          <a:stretch/>
        </p:blipFill>
        <p:spPr>
          <a:xfrm>
            <a:off x="1878120" y="1255680"/>
            <a:ext cx="241200" cy="6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"/>
          <p:cNvPicPr/>
          <p:nvPr/>
        </p:nvPicPr>
        <p:blipFill>
          <a:blip r:embed="rId5"/>
          <a:stretch/>
        </p:blipFill>
        <p:spPr>
          <a:xfrm>
            <a:off x="1878120" y="1446120"/>
            <a:ext cx="226800" cy="6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"/>
          <p:cNvPicPr/>
          <p:nvPr/>
        </p:nvPicPr>
        <p:blipFill>
          <a:blip r:embed="rId6"/>
          <a:stretch/>
        </p:blipFill>
        <p:spPr>
          <a:xfrm>
            <a:off x="1849320" y="1938240"/>
            <a:ext cx="301680" cy="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"/>
          <p:cNvPicPr/>
          <p:nvPr/>
        </p:nvPicPr>
        <p:blipFill>
          <a:blip r:embed="rId7"/>
          <a:stretch/>
        </p:blipFill>
        <p:spPr>
          <a:xfrm>
            <a:off x="1855800" y="2281320"/>
            <a:ext cx="287280" cy="6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"/>
          <p:cNvPicPr/>
          <p:nvPr/>
        </p:nvPicPr>
        <p:blipFill>
          <a:blip r:embed="rId8"/>
          <a:stretch/>
        </p:blipFill>
        <p:spPr>
          <a:xfrm>
            <a:off x="1747800" y="2471760"/>
            <a:ext cx="496800" cy="6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"/>
          <p:cNvPicPr/>
          <p:nvPr/>
        </p:nvPicPr>
        <p:blipFill>
          <a:blip r:embed="rId9"/>
          <a:stretch/>
        </p:blipFill>
        <p:spPr>
          <a:xfrm>
            <a:off x="1860480" y="2968560"/>
            <a:ext cx="270000" cy="5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8" descr=""/>
          <p:cNvPicPr/>
          <p:nvPr/>
        </p:nvPicPr>
        <p:blipFill>
          <a:blip r:embed="rId10"/>
          <a:stretch/>
        </p:blipFill>
        <p:spPr>
          <a:xfrm>
            <a:off x="1878120" y="3156120"/>
            <a:ext cx="226800" cy="7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9" descr=""/>
          <p:cNvPicPr/>
          <p:nvPr/>
        </p:nvPicPr>
        <p:blipFill>
          <a:blip r:embed="rId11"/>
          <a:stretch/>
        </p:blipFill>
        <p:spPr>
          <a:xfrm>
            <a:off x="1881360" y="3494160"/>
            <a:ext cx="193680" cy="61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"/>
          <p:cNvPicPr/>
          <p:nvPr/>
        </p:nvPicPr>
        <p:blipFill>
          <a:blip r:embed="rId12"/>
          <a:stretch/>
        </p:blipFill>
        <p:spPr>
          <a:xfrm>
            <a:off x="1744560" y="3983040"/>
            <a:ext cx="497160" cy="68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1" descr=""/>
          <p:cNvPicPr/>
          <p:nvPr/>
        </p:nvPicPr>
        <p:blipFill>
          <a:blip r:embed="rId13"/>
          <a:stretch/>
        </p:blipFill>
        <p:spPr>
          <a:xfrm>
            <a:off x="1881360" y="4173480"/>
            <a:ext cx="233280" cy="82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"/>
          <p:cNvPicPr/>
          <p:nvPr/>
        </p:nvPicPr>
        <p:blipFill>
          <a:blip r:embed="rId14"/>
          <a:stretch/>
        </p:blipFill>
        <p:spPr>
          <a:xfrm>
            <a:off x="1827360" y="4519440"/>
            <a:ext cx="338040" cy="61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3" descr=""/>
          <p:cNvPicPr/>
          <p:nvPr/>
        </p:nvPicPr>
        <p:blipFill>
          <a:blip r:embed="rId15"/>
          <a:stretch/>
        </p:blipFill>
        <p:spPr>
          <a:xfrm>
            <a:off x="1863720" y="4863960"/>
            <a:ext cx="262080" cy="76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4" descr=""/>
          <p:cNvPicPr/>
          <p:nvPr/>
        </p:nvPicPr>
        <p:blipFill>
          <a:blip r:embed="rId16"/>
          <a:stretch/>
        </p:blipFill>
        <p:spPr>
          <a:xfrm>
            <a:off x="1878120" y="5195880"/>
            <a:ext cx="226800" cy="68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5" descr=""/>
          <p:cNvPicPr/>
          <p:nvPr/>
        </p:nvPicPr>
        <p:blipFill>
          <a:blip r:embed="rId17"/>
          <a:stretch/>
        </p:blipFill>
        <p:spPr>
          <a:xfrm>
            <a:off x="1884240" y="5692680"/>
            <a:ext cx="233640" cy="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6" descr=""/>
          <p:cNvPicPr/>
          <p:nvPr/>
        </p:nvPicPr>
        <p:blipFill>
          <a:blip r:embed="rId18"/>
          <a:stretch/>
        </p:blipFill>
        <p:spPr>
          <a:xfrm>
            <a:off x="1838160" y="5880240"/>
            <a:ext cx="316080" cy="82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"/>
          <p:cNvPicPr/>
          <p:nvPr/>
        </p:nvPicPr>
        <p:blipFill>
          <a:blip r:embed="rId19"/>
          <a:stretch/>
        </p:blipFill>
        <p:spPr>
          <a:xfrm>
            <a:off x="1787400" y="6221520"/>
            <a:ext cx="406440" cy="8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5737E-006 L 0.12604 0.5665 E">
                                      <p:cBhvr>
                                        <p:cTn id="4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0255 L 0.23993 0.56204 E">
                                      <p:cBhvr>
                                        <p:cTn id="4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24288 0.57824 E">
                                      <p:cBhvr>
                                        <p:cTn id="5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96296E-006 L 0.24184 0.54907 E">
                                      <p:cBhvr>
                                        <p:cTn id="5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96296E-006 L 0.24201 0.54097 E">
                                      <p:cBhvr>
                                        <p:cTn id="6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50844E-006 L 0.12604 0.19917 E">
                                      <p:cBhvr>
                                        <p:cTn id="6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2222E-006 L 0.24236 0.20833 E">
                                      <p:cBhvr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0.24236 0.1787 E">
                                      <p:cBhvr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0.00764 L 0.24167 0.19468 E">
                                      <p:cBhvr>
                                        <p:cTn id="7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347 L 0.24444 0.19259 E">
                                      <p:cBhvr>
                                        <p:cTn id="8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75341E-006 L 0.12604 -0.25191 E">
                                      <p:cBhvr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24271 -0.25371 E">
                                      <p:cBhvr>
                                        <p:cTn id="9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23438 -0.24051 E">
                                      <p:cBhvr>
                                        <p:cTn id="9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L 0.24236 -0.24746 E">
                                      <p:cBhvr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L 0.24253 -0.25671 E">
                                      <p:cBhvr>
                                        <p:cTn id="9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6433E-006 L 0.12604 -0.61832 E">
                                      <p:cBhvr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0.24288 -0.60903 E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7.40741E-007 L 0.24184 -0.63889 E">
                                      <p:cBhvr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L 0.24236 -0.62593 E">
                                      <p:cBhvr>
                                        <p:cTn id="11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24288 -0.63379 E">
                                      <p:cBhvr>
                                        <p:cTn id="11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repêchages de 32 -1-"/>
          <p:cNvPicPr/>
          <p:nvPr/>
        </p:nvPicPr>
        <p:blipFill>
          <a:blip r:embed="rId1"/>
          <a:stretch/>
        </p:blipFill>
        <p:spPr>
          <a:xfrm>
            <a:off x="539640" y="907920"/>
            <a:ext cx="8137800" cy="558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ableau de 32 - début"/>
          <p:cNvPicPr/>
          <p:nvPr/>
        </p:nvPicPr>
        <p:blipFill>
          <a:blip r:embed="rId1"/>
          <a:stretch/>
        </p:blipFill>
        <p:spPr>
          <a:xfrm>
            <a:off x="539640" y="907920"/>
            <a:ext cx="8136000" cy="556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436320" cy="5567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7"/>
          <p:cNvSpPr/>
          <p:nvPr/>
        </p:nvSpPr>
        <p:spPr>
          <a:xfrm>
            <a:off x="5292720" y="2924280"/>
            <a:ext cx="287964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6 Combats on été effectués. Il faut donc passer au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17</a:t>
            </a:r>
            <a:r>
              <a:rPr b="1" lang="fr-FR" sz="2400" spc="-1" strike="noStrike" baseline="30000">
                <a:solidFill>
                  <a:srgbClr val="ff3300"/>
                </a:solidFill>
                <a:latin typeface="Times New Roman"/>
              </a:rPr>
              <a:t>èm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8"/>
          <p:cNvSpPr/>
          <p:nvPr/>
        </p:nvSpPr>
        <p:spPr>
          <a:xfrm flipH="1" flipV="1">
            <a:off x="3924360" y="1483920"/>
            <a:ext cx="2735280" cy="2305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1"/>
          <p:cNvSpPr/>
          <p:nvPr/>
        </p:nvSpPr>
        <p:spPr>
          <a:xfrm>
            <a:off x="3708360" y="1179360"/>
            <a:ext cx="358920" cy="244800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2"/>
          <p:cNvSpPr/>
          <p:nvPr/>
        </p:nvSpPr>
        <p:spPr>
          <a:xfrm>
            <a:off x="3708360" y="3914640"/>
            <a:ext cx="358920" cy="2428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5" descr=""/>
          <p:cNvPicPr/>
          <p:nvPr/>
        </p:nvPicPr>
        <p:blipFill>
          <a:blip r:embed="rId3"/>
          <a:stretch/>
        </p:blipFill>
        <p:spPr>
          <a:xfrm>
            <a:off x="4356000" y="907920"/>
            <a:ext cx="395280" cy="556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0"/>
          <p:cNvSpPr/>
          <p:nvPr/>
        </p:nvSpPr>
        <p:spPr>
          <a:xfrm>
            <a:off x="2843280" y="476280"/>
            <a:ext cx="1727280" cy="459720"/>
          </a:xfrm>
          <a:prstGeom prst="rect">
            <a:avLst/>
          </a:prstGeom>
          <a:solidFill>
            <a:srgbClr val="ff0000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T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6" descr=""/>
          <p:cNvPicPr/>
          <p:nvPr/>
        </p:nvPicPr>
        <p:blipFill>
          <a:blip r:embed="rId4"/>
          <a:stretch/>
        </p:blipFill>
        <p:spPr>
          <a:xfrm>
            <a:off x="4932360" y="912960"/>
            <a:ext cx="4211640" cy="5567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7" descr=""/>
          <p:cNvPicPr/>
          <p:nvPr/>
        </p:nvPicPr>
        <p:blipFill>
          <a:blip r:embed="rId5"/>
          <a:stretch/>
        </p:blipFill>
        <p:spPr>
          <a:xfrm>
            <a:off x="3309840" y="1111320"/>
            <a:ext cx="227160" cy="61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8" descr=""/>
          <p:cNvPicPr/>
          <p:nvPr/>
        </p:nvPicPr>
        <p:blipFill>
          <a:blip r:embed="rId6"/>
          <a:stretch/>
        </p:blipFill>
        <p:spPr>
          <a:xfrm>
            <a:off x="3292560" y="2133720"/>
            <a:ext cx="255600" cy="61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9" descr=""/>
          <p:cNvPicPr/>
          <p:nvPr/>
        </p:nvPicPr>
        <p:blipFill>
          <a:blip r:embed="rId7"/>
          <a:stretch/>
        </p:blipFill>
        <p:spPr>
          <a:xfrm>
            <a:off x="3295800" y="2471760"/>
            <a:ext cx="269640" cy="6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0" descr=""/>
          <p:cNvPicPr/>
          <p:nvPr/>
        </p:nvPicPr>
        <p:blipFill>
          <a:blip r:embed="rId8"/>
          <a:stretch/>
        </p:blipFill>
        <p:spPr>
          <a:xfrm>
            <a:off x="3292560" y="3489480"/>
            <a:ext cx="255600" cy="6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"/>
          <p:cNvPicPr/>
          <p:nvPr/>
        </p:nvPicPr>
        <p:blipFill>
          <a:blip r:embed="rId9"/>
          <a:stretch/>
        </p:blipFill>
        <p:spPr>
          <a:xfrm>
            <a:off x="3278160" y="3838680"/>
            <a:ext cx="295200" cy="82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3" descr=""/>
          <p:cNvPicPr/>
          <p:nvPr/>
        </p:nvPicPr>
        <p:blipFill>
          <a:blip r:embed="rId10"/>
          <a:stretch/>
        </p:blipFill>
        <p:spPr>
          <a:xfrm>
            <a:off x="3324240" y="5199120"/>
            <a:ext cx="193680" cy="61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4" descr=""/>
          <p:cNvPicPr/>
          <p:nvPr/>
        </p:nvPicPr>
        <p:blipFill>
          <a:blip r:embed="rId11"/>
          <a:stretch/>
        </p:blipFill>
        <p:spPr>
          <a:xfrm>
            <a:off x="3276720" y="6224760"/>
            <a:ext cx="287280" cy="6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5" descr=""/>
          <p:cNvPicPr/>
          <p:nvPr/>
        </p:nvPicPr>
        <p:blipFill>
          <a:blip r:embed="rId12"/>
          <a:stretch/>
        </p:blipFill>
        <p:spPr>
          <a:xfrm>
            <a:off x="3309840" y="4522680"/>
            <a:ext cx="216000" cy="6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0.27534 0.47013 E">
                                      <p:cBhvr>
                                        <p:cTn id="15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7 L 0.27569 0.41551 E">
                                      <p:cBhvr>
                                        <p:cTn id="16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27448 0.45024 E">
                                      <p:cBhvr>
                                        <p:cTn id="16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L 0.26771 0.38541 E">
                                      <p:cBhvr>
                                        <p:cTn id="16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L 0.26702 -0.33866 E">
                                      <p:cBhvr>
                                        <p:cTn id="16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0.26789 -0.35278 E">
                                      <p:cBhvr>
                                        <p:cTn id="17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27552 -0.36759 E">
                                      <p:cBhvr>
                                        <p:cTn id="17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6296E-006 L 0.27569 -0.4331 E">
                                      <p:cBhvr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137800" cy="5567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4"/>
          <p:cNvSpPr/>
          <p:nvPr/>
        </p:nvSpPr>
        <p:spPr>
          <a:xfrm>
            <a:off x="0" y="1484280"/>
            <a:ext cx="91440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chaque fin de tour il faut penser à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dentifier les prochains combats et surtout dans quel tableau ils sont (principale ou repêch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rès les 2 premiers tours effectué (24 combats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enchaine sur le 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25</a:t>
            </a:r>
            <a:r>
              <a:rPr b="1" lang="fr-FR" sz="1600" spc="-1" strike="noStrike" baseline="30000">
                <a:solidFill>
                  <a:srgbClr val="ff3300"/>
                </a:solidFill>
                <a:latin typeface="Arial"/>
              </a:rPr>
              <a:t>èm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combat puis on finit le premier tour de repêch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792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ainsi de suite en continuant à suivre l’ordre des comb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2"/>
          <a:stretch/>
        </p:blipFill>
        <p:spPr>
          <a:xfrm>
            <a:off x="2224080" y="888840"/>
            <a:ext cx="385920" cy="5585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1600200" y="2309760"/>
            <a:ext cx="378000" cy="3959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4211640" y="2421000"/>
            <a:ext cx="39592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remier tour de repêchages fini au combat n°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4211640" y="4221000"/>
            <a:ext cx="3960720" cy="229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a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e deuxième tour de repêchages commence au combat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37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c il faut retourner voir le </a:t>
            </a: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bleau princip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4211640" y="3321000"/>
            <a:ext cx="39607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l faut donc continuer avec le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combat 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1116000" y="1557360"/>
            <a:ext cx="144144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Tour de Repêc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1"/>
          <p:cNvSpPr/>
          <p:nvPr/>
        </p:nvSpPr>
        <p:spPr>
          <a:xfrm flipH="1">
            <a:off x="1979640" y="2997360"/>
            <a:ext cx="2232000" cy="309564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bleau de 32 -3- huitième"/>
          <p:cNvPicPr/>
          <p:nvPr/>
        </p:nvPicPr>
        <p:blipFill>
          <a:blip r:embed="rId1"/>
          <a:stretch/>
        </p:blipFill>
        <p:spPr>
          <a:xfrm>
            <a:off x="539640" y="907920"/>
            <a:ext cx="8137800" cy="5567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516720" y="907920"/>
            <a:ext cx="21589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ici le 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combat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 flipH="1">
            <a:off x="5076720" y="1484280"/>
            <a:ext cx="1511280" cy="7308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427640" y="620640"/>
            <a:ext cx="129672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¼ de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932360" y="1341360"/>
            <a:ext cx="360360" cy="482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5556240" y="907920"/>
            <a:ext cx="360360" cy="556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"/>
          <p:cNvPicPr/>
          <p:nvPr/>
        </p:nvPicPr>
        <p:blipFill>
          <a:blip r:embed="rId3"/>
          <a:stretch/>
        </p:blipFill>
        <p:spPr>
          <a:xfrm>
            <a:off x="4300560" y="5365800"/>
            <a:ext cx="406440" cy="108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5" name="Picture 15" descr=""/>
          <p:cNvPicPr/>
          <p:nvPr/>
        </p:nvPicPr>
        <p:blipFill>
          <a:blip r:embed="rId4"/>
          <a:stretch/>
        </p:blipFill>
        <p:spPr>
          <a:xfrm>
            <a:off x="4394160" y="3994200"/>
            <a:ext cx="193680" cy="108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5"/>
          <a:stretch/>
        </p:blipFill>
        <p:spPr>
          <a:xfrm>
            <a:off x="4344840" y="3262320"/>
            <a:ext cx="295560" cy="108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7" name="Picture 17" descr=""/>
          <p:cNvPicPr/>
          <p:nvPr/>
        </p:nvPicPr>
        <p:blipFill>
          <a:blip r:embed="rId6"/>
          <a:stretch/>
        </p:blipFill>
        <p:spPr>
          <a:xfrm>
            <a:off x="4368960" y="1268280"/>
            <a:ext cx="255600" cy="108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9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01040" cy="557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4821120" y="3065400"/>
            <a:ext cx="255600" cy="108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4821120" y="4008600"/>
            <a:ext cx="295560" cy="107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1" name="Picture 10" descr=""/>
          <p:cNvPicPr/>
          <p:nvPr/>
        </p:nvPicPr>
        <p:blipFill>
          <a:blip r:embed="rId4"/>
          <a:stretch/>
        </p:blipFill>
        <p:spPr>
          <a:xfrm>
            <a:off x="4859280" y="5326200"/>
            <a:ext cx="193680" cy="107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2" name="Picture 11" descr=""/>
          <p:cNvPicPr/>
          <p:nvPr/>
        </p:nvPicPr>
        <p:blipFill>
          <a:blip r:embed="rId5"/>
          <a:stretch/>
        </p:blipFill>
        <p:spPr>
          <a:xfrm>
            <a:off x="4716360" y="6269040"/>
            <a:ext cx="406440" cy="106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23" name="Text Box 13"/>
          <p:cNvSpPr/>
          <p:nvPr/>
        </p:nvSpPr>
        <p:spPr>
          <a:xfrm>
            <a:off x="5435640" y="907920"/>
            <a:ext cx="338436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faut donc continuer avec le combat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2727360" y="2428920"/>
            <a:ext cx="403200" cy="3994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7" descr=""/>
          <p:cNvPicPr/>
          <p:nvPr/>
        </p:nvPicPr>
        <p:blipFill>
          <a:blip r:embed="rId6"/>
          <a:stretch/>
        </p:blipFill>
        <p:spPr>
          <a:xfrm>
            <a:off x="3419640" y="907920"/>
            <a:ext cx="420480" cy="55785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1979640" y="907920"/>
            <a:ext cx="33843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quarts de finale se sont terminés par le combat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 flipH="1">
            <a:off x="3059280" y="1700280"/>
            <a:ext cx="4465440" cy="865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8:03:00Z</dcterms:created>
  <dc:creator>Vialette</dc:creator>
  <dc:description/>
  <dc:language>en-US</dc:language>
  <cp:lastModifiedBy>VIALETTE Remi UPR O/APR</cp:lastModifiedBy>
  <dcterms:modified xsi:type="dcterms:W3CDTF">2023-02-25T20:49:19Z</dcterms:modified>
  <cp:revision>233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07222825-62ea-40f3-96b5-5375c07996e2_ActionId">
    <vt:lpwstr>6f051f79-fcb9-439f-bc95-49f9a44fb053</vt:lpwstr>
  </property>
  <property fmtid="{D5CDD505-2E9C-101B-9397-08002B2CF9AE}" pid="3" name="MSIP_Label_07222825-62ea-40f3-96b5-5375c07996e2_ContentBits">
    <vt:lpwstr>0</vt:lpwstr>
  </property>
  <property fmtid="{D5CDD505-2E9C-101B-9397-08002B2CF9AE}" pid="4" name="MSIP_Label_07222825-62ea-40f3-96b5-5375c07996e2_Enabled">
    <vt:lpwstr>true</vt:lpwstr>
  </property>
  <property fmtid="{D5CDD505-2E9C-101B-9397-08002B2CF9AE}" pid="5" name="MSIP_Label_07222825-62ea-40f3-96b5-5375c07996e2_Method">
    <vt:lpwstr>Privileged</vt:lpwstr>
  </property>
  <property fmtid="{D5CDD505-2E9C-101B-9397-08002B2CF9AE}" pid="6" name="MSIP_Label_07222825-62ea-40f3-96b5-5375c07996e2_Name">
    <vt:lpwstr>unrestricted_parent.2</vt:lpwstr>
  </property>
  <property fmtid="{D5CDD505-2E9C-101B-9397-08002B2CF9AE}" pid="7" name="MSIP_Label_07222825-62ea-40f3-96b5-5375c07996e2_SetDate">
    <vt:lpwstr>2023-02-25T20:49:14Z</vt:lpwstr>
  </property>
  <property fmtid="{D5CDD505-2E9C-101B-9397-08002B2CF9AE}" pid="8" name="MSIP_Label_07222825-62ea-40f3-96b5-5375c07996e2_SiteId">
    <vt:lpwstr>90c7a20a-f34b-40bf-bc48-b9253b6f5d20</vt:lpwstr>
  </property>
</Properties>
</file>