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file://MYBOOKWORLD/usb1-1share1/JUDO/CS/S_0708/CDA_0708/Formation/StagesEcoles/SE1_201007/Pr&#233;sentation/ppt/0_sommaire_SE1_s78f0.pps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fond écr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ffjudo"/>
          <p:cNvPicPr/>
          <p:nvPr/>
        </p:nvPicPr>
        <p:blipFill>
          <a:blip r:embed="rId3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0"/>
          <p:cNvSpPr/>
          <p:nvPr/>
        </p:nvSpPr>
        <p:spPr>
          <a:xfrm>
            <a:off x="290520" y="652140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21/10/2022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3124080" y="6508800"/>
            <a:ext cx="36799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départementaux 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6804000" y="6486480"/>
            <a:ext cx="1905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FB78-8E02-432F-B76B-6253B8D80221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Text Box 16">
            <a:hlinkClick r:id="rId4"/>
          </p:cNvPr>
          <p:cNvSpPr/>
          <p:nvPr/>
        </p:nvSpPr>
        <p:spPr>
          <a:xfrm>
            <a:off x="8101080" y="609300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Text Box 19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ahoma"/>
              </a:rPr>
              <a:t>Ligue de judo des Pays de la Loi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0000" y="476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" name="Picture 21" descr="logo_ligue"/>
          <p:cNvPicPr/>
          <p:nvPr/>
        </p:nvPicPr>
        <p:blipFill>
          <a:blip r:embed="rId5"/>
          <a:stretch/>
        </p:blipFill>
        <p:spPr>
          <a:xfrm>
            <a:off x="324000" y="189000"/>
            <a:ext cx="59688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395280" y="1989000"/>
            <a:ext cx="84582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La nouvelles disposition de la salle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108000" y="977760"/>
            <a:ext cx="892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99"/>
                </a:solidFill>
                <a:latin typeface="Verdana"/>
              </a:rPr>
              <a:t>Organisation de la sal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903240" y="5445000"/>
            <a:ext cx="1297080" cy="936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Bureau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487600" y="2421000"/>
            <a:ext cx="289080" cy="2982960"/>
          </a:xfrm>
          <a:prstGeom prst="rect">
            <a:avLst/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492280" y="5148360"/>
            <a:ext cx="5464440" cy="253800"/>
          </a:xfrm>
          <a:prstGeom prst="rect">
            <a:avLst/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03240" y="2421000"/>
            <a:ext cx="1441440" cy="2981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Tribun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776680" y="1557360"/>
            <a:ext cx="5111640" cy="79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Tribun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344680" y="5445000"/>
            <a:ext cx="1295280" cy="936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Salle Muscu / Secourist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987640" y="3911760"/>
            <a:ext cx="1440000" cy="1101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pis 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987640" y="2565360"/>
            <a:ext cx="1440000" cy="1100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pis 2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716360" y="2565360"/>
            <a:ext cx="1440000" cy="1100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pis 3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6443640" y="2571840"/>
            <a:ext cx="1441440" cy="1101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pis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43640" y="3911760"/>
            <a:ext cx="1441440" cy="1101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pis 5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4716360" y="3911760"/>
            <a:ext cx="1440000" cy="1101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Table central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222880" y="3767040"/>
            <a:ext cx="426960" cy="14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Rectangle 16"/>
          <p:cNvSpPr/>
          <p:nvPr/>
        </p:nvSpPr>
        <p:spPr>
          <a:xfrm rot="5400000">
            <a:off x="6029640" y="4390200"/>
            <a:ext cx="428760" cy="144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Rectangle 17"/>
          <p:cNvSpPr/>
          <p:nvPr/>
        </p:nvSpPr>
        <p:spPr>
          <a:xfrm rot="5400000">
            <a:off x="4435200" y="4362120"/>
            <a:ext cx="427320" cy="14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Rectangle 18"/>
          <p:cNvSpPr/>
          <p:nvPr/>
        </p:nvSpPr>
        <p:spPr>
          <a:xfrm rot="18469800">
            <a:off x="4502160" y="3842640"/>
            <a:ext cx="427320" cy="14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Rectangle 19"/>
          <p:cNvSpPr/>
          <p:nvPr/>
        </p:nvSpPr>
        <p:spPr>
          <a:xfrm rot="3291600">
            <a:off x="5982840" y="3840120"/>
            <a:ext cx="426960" cy="144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ZoneTexte 3"/>
          <p:cNvSpPr/>
          <p:nvPr/>
        </p:nvSpPr>
        <p:spPr>
          <a:xfrm>
            <a:off x="903240" y="3068640"/>
            <a:ext cx="144144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ous êtes ici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ous êtes ici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210960" y="1916280"/>
            <a:ext cx="86760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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Se présenter 30 minutes avant le début des pesées pour 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Verdana"/>
              </a:rPr>
              <a:t>S’inscrire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Verdana"/>
              </a:rPr>
              <a:t>Installer le matériel (table, ordinateur, écran, …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Verdana"/>
              </a:rPr>
              <a:t>Préparer la pesée (table, chaise, petit briefing d’avant pesée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Une fois la pesée terminé 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34784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Verdana"/>
              </a:rPr>
              <a:t>Dernier tour de la salle pour vérifier que tout est prêt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34784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Verdana"/>
              </a:rPr>
              <a:t>Briefing avec les arbitres et répartition sur les tapi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34784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Verdana"/>
              </a:rPr>
              <a:t>Début de la compéti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08000" y="977760"/>
            <a:ext cx="892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99"/>
                </a:solidFill>
                <a:latin typeface="Verdana"/>
              </a:rPr>
              <a:t>Le travail du commissaire sporti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VIALETTE Remi UPR O/APR</cp:lastModifiedBy>
  <dcterms:modified xsi:type="dcterms:W3CDTF">2023-02-25T20:41:46Z</dcterms:modified>
  <cp:revision>118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9b1573e3-d99b-4eb7-971f-833ac185d538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41:07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Propriétaire">
    <vt:lpwstr>Jean Claude VIALETTE</vt:lpwstr>
  </property>
</Properties>
</file>