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3AA2-17EA-48EE-9426-3F0B708441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E583-1E33-41A8-8F29-FA0E25BCB3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file://MYBOOKWORLD/usb1-1share1/JUDO/CS/S_0708/CDA_0708/Formation/StagesEcoles/SE1_201007/Pr&#233;sentation/ppt/0_sommaire_SE1_s78f0.pps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fond écr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ffjudo"/>
          <p:cNvPicPr/>
          <p:nvPr/>
        </p:nvPicPr>
        <p:blipFill>
          <a:blip r:embed="rId3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0"/>
          <p:cNvSpPr/>
          <p:nvPr/>
        </p:nvSpPr>
        <p:spPr>
          <a:xfrm>
            <a:off x="290520" y="655020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21/10/2022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3124080" y="6524640"/>
            <a:ext cx="35355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 départementaux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6842160" y="6516720"/>
            <a:ext cx="1905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FB23-AF30-49D5-B007-01087A5EA439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Text Box 16">
            <a:hlinkClick r:id="rId4"/>
          </p:cNvPr>
          <p:cNvSpPr/>
          <p:nvPr/>
        </p:nvSpPr>
        <p:spPr>
          <a:xfrm>
            <a:off x="8101080" y="609300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Text Box 19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ahoma"/>
              </a:rPr>
              <a:t>Ligue de judo des Pays de la Loi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0000" y="476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" name="Picture 21" descr="logo_ligue"/>
          <p:cNvPicPr/>
          <p:nvPr/>
        </p:nvPicPr>
        <p:blipFill>
          <a:blip r:embed="rId5"/>
          <a:stretch/>
        </p:blipFill>
        <p:spPr>
          <a:xfrm>
            <a:off x="324000" y="189000"/>
            <a:ext cx="59688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395280" y="256536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Les Temp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6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7562880" cy="540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7813800" y="907920"/>
          <a:ext cx="1222200" cy="4800600"/>
        </p:xfrm>
        <a:graphic>
          <a:graphicData uri="http://schemas.openxmlformats.org/drawingml/2006/table">
            <a:tbl>
              <a:tblPr/>
              <a:tblGrid>
                <a:gridCol w="1222200"/>
              </a:tblGrid>
              <a:tr h="100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mps de re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ouble du tps de cb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0"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ouble du tps de cb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2" descr=""/>
          <p:cNvPicPr/>
          <p:nvPr/>
        </p:nvPicPr>
        <p:blipFill>
          <a:blip r:embed="rId1"/>
          <a:stretch/>
        </p:blipFill>
        <p:spPr>
          <a:xfrm>
            <a:off x="249120" y="1657440"/>
            <a:ext cx="8712360" cy="2139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725400" y="1069920"/>
            <a:ext cx="755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99"/>
                </a:solidFill>
                <a:latin typeface="Arial Black"/>
              </a:rPr>
              <a:t>Rappel des bases de la not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Rectangle 84"/>
          <p:cNvSpPr/>
          <p:nvPr/>
        </p:nvSpPr>
        <p:spPr>
          <a:xfrm>
            <a:off x="838080" y="5157720"/>
            <a:ext cx="7537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REMARQUE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fr-FR" sz="1800" spc="-1" strike="noStrike">
                <a:solidFill>
                  <a:srgbClr val="000000"/>
                </a:solidFill>
                <a:latin typeface="Verdana"/>
              </a:rPr>
              <a:t>SONOMAMA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arrêt momentané </a:t>
            </a:r>
            <a:r>
              <a:rPr b="1" lang="fr-FR" sz="1400" spc="-1" strike="noStrike">
                <a:solidFill>
                  <a:srgbClr val="ff0000"/>
                </a:solidFill>
                <a:latin typeface="Verdana"/>
              </a:rPr>
              <a:t>de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chronomètres)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fige le temps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fr-FR" sz="1800" spc="-1" strike="noStrike">
                <a:solidFill>
                  <a:srgbClr val="000000"/>
                </a:solidFill>
                <a:latin typeface="Verdana"/>
              </a:rPr>
              <a:t>YOSH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redémarrage </a:t>
            </a:r>
            <a:r>
              <a:rPr b="1" lang="fr-FR" sz="1400" spc="-1" strike="noStrike">
                <a:solidFill>
                  <a:srgbClr val="ff0000"/>
                </a:solidFill>
                <a:latin typeface="Verdana"/>
              </a:rPr>
              <a:t>de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chronomètres)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8080" y="3692520"/>
          <a:ext cx="7334280" cy="1098720"/>
        </p:xfrm>
        <a:graphic>
          <a:graphicData uri="http://schemas.openxmlformats.org/drawingml/2006/table">
            <a:tbl>
              <a:tblPr/>
              <a:tblGrid>
                <a:gridCol w="1989360"/>
                <a:gridCol w="1987560"/>
                <a:gridCol w="2057400"/>
                <a:gridCol w="1299960"/>
              </a:tblGrid>
              <a:tr h="398160">
                <a:tc>
                  <a:txBody>
                    <a:bodyPr lIns="90000" rIns="90000" tIns="46440" bIns="4644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I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AZA A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PP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tes catégo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de 01</a:t>
                      </a: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à 09</a:t>
                      </a: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de 10</a:t>
                      </a: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à 19</a:t>
                      </a: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VIALETTE Remi UPR O/APR</cp:lastModifiedBy>
  <dcterms:modified xsi:type="dcterms:W3CDTF">2023-02-25T20:42:17Z</dcterms:modified>
  <cp:revision>104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aec94e2a-28cc-48a6-b260-80d980639db8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42:00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Propriétaire">
    <vt:lpwstr>Jean Claude VIALETTE</vt:lpwstr>
  </property>
</Properties>
</file>