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80CA-917E-4B64-877A-D06F2B87FD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B99F-5669-47A1-8ED0-5FFFE19A91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DB3E-A032-4C66-9933-C904E18DC8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AC22-5832-4B1E-A98B-1B335D2BD9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023E-2384-44B9-BCBA-4EDD7E9682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035-BEE1-40FC-896E-9AE8D37EA9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8C92-58B9-4582-8387-09518152C0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DC9-656A-4501-A959-6B51A9A549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4BC4-2E40-4CD6-ACFF-69B238AA1A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AC6D-CCAA-4252-AD99-F46E02AC04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4078-4E40-409B-B78D-763F414F1C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D996-8BC1-4595-BEF8-7652969B6C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AD8D-8323-4306-849C-90A7F01715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12/11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916360" y="6478560"/>
            <a:ext cx="3679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67360" y="651672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082-97B9-427C-97EE-8775016115D4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Text Box 19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Picture 21" descr="logo_ligue"/>
          <p:cNvPicPr/>
          <p:nvPr/>
        </p:nvPicPr>
        <p:blipFill>
          <a:blip r:embed="rId4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es valeur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999"/>
                </a:solidFill>
                <a:latin typeface="Arial Black"/>
              </a:rPr>
              <a:t>Techniques et pénalité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116160" y="2595600"/>
          <a:ext cx="2766960" cy="1011240"/>
        </p:xfrm>
        <a:graphic>
          <a:graphicData uri="http://schemas.openxmlformats.org/drawingml/2006/table">
            <a:tbl>
              <a:tblPr/>
              <a:tblGrid>
                <a:gridCol w="460440"/>
                <a:gridCol w="461880"/>
                <a:gridCol w="463680"/>
                <a:gridCol w="458640"/>
                <a:gridCol w="462240"/>
                <a:gridCol w="460080"/>
              </a:tblGrid>
              <a:tr h="4888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3"/>
          <p:cNvSpPr/>
          <p:nvPr/>
        </p:nvSpPr>
        <p:spPr>
          <a:xfrm>
            <a:off x="395280" y="1413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MEDECI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Victoire par appel du médeci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63640" y="4292640"/>
            <a:ext cx="691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combattant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pourra être repêché </a:t>
            </a:r>
            <a:r>
              <a:rPr b="0" i="1" lang="fr-FR" sz="1800" spc="-1" strike="noStrike">
                <a:solidFill>
                  <a:srgbClr val="ff0000"/>
                </a:solidFill>
                <a:latin typeface="Verdana"/>
              </a:rPr>
              <a:t>après avis médica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40" descr="ippon"/>
          <p:cNvPicPr/>
          <p:nvPr/>
        </p:nvPicPr>
        <p:blipFill>
          <a:blip r:embed="rId1"/>
          <a:stretch/>
        </p:blipFill>
        <p:spPr>
          <a:xfrm>
            <a:off x="395280" y="1484280"/>
            <a:ext cx="1262160" cy="439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395280" y="1413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HANSOKU MA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63640" y="3933720"/>
            <a:ext cx="69138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IPPON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sur </a:t>
            </a: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élimination directe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pour faute technique de l’adversaire (si le combattant se met en danger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ette faute es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non disqualificative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’adversair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pourra être repêché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16160" y="2595600"/>
          <a:ext cx="2766960" cy="1011240"/>
        </p:xfrm>
        <a:graphic>
          <a:graphicData uri="http://schemas.openxmlformats.org/drawingml/2006/table">
            <a:tbl>
              <a:tblPr/>
              <a:tblGrid>
                <a:gridCol w="460440"/>
                <a:gridCol w="461880"/>
                <a:gridCol w="463680"/>
                <a:gridCol w="458640"/>
                <a:gridCol w="462240"/>
                <a:gridCol w="460080"/>
              </a:tblGrid>
              <a:tr h="4888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40" descr="ippon"/>
          <p:cNvPicPr/>
          <p:nvPr/>
        </p:nvPicPr>
        <p:blipFill>
          <a:blip r:embed="rId1"/>
          <a:stretch/>
        </p:blipFill>
        <p:spPr>
          <a:xfrm>
            <a:off x="395280" y="1484280"/>
            <a:ext cx="1262160" cy="439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95280" y="1413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HANSOKU MA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Comportement contraire à l’esprit du jud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63640" y="3933720"/>
            <a:ext cx="691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IPPON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sur </a:t>
            </a: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élimination directe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pour comportement contraire à l’esprit du judo (si le combattant met en danger son adversaire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ette faute es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disqualificative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L’adversaire ne pourra pas être repêché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40" descr="ippon"/>
          <p:cNvPicPr/>
          <p:nvPr/>
        </p:nvPicPr>
        <p:blipFill>
          <a:blip r:embed="rId1"/>
          <a:stretch/>
        </p:blipFill>
        <p:spPr>
          <a:xfrm>
            <a:off x="395280" y="1484280"/>
            <a:ext cx="12621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116160" y="2595600"/>
          <a:ext cx="2766960" cy="1011240"/>
        </p:xfrm>
        <a:graphic>
          <a:graphicData uri="http://schemas.openxmlformats.org/drawingml/2006/table">
            <a:tbl>
              <a:tblPr/>
              <a:tblGrid>
                <a:gridCol w="460440"/>
                <a:gridCol w="461880"/>
                <a:gridCol w="463680"/>
                <a:gridCol w="458640"/>
                <a:gridCol w="462240"/>
                <a:gridCol w="460080"/>
              </a:tblGrid>
              <a:tr h="4888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6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562880" cy="54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813800" y="907920"/>
          <a:ext cx="1222200" cy="4800600"/>
        </p:xfrm>
        <a:graphic>
          <a:graphicData uri="http://schemas.openxmlformats.org/drawingml/2006/table">
            <a:tbl>
              <a:tblPr/>
              <a:tblGrid>
                <a:gridCol w="1222200"/>
              </a:tblGrid>
              <a:tr h="100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s de re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uble du tps de c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uble du tps de c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249120" y="1657440"/>
            <a:ext cx="8712360" cy="2139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725400" y="1069920"/>
            <a:ext cx="75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Arial Black"/>
              </a:rPr>
              <a:t>Rappel des bases de la no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Rectangle 84"/>
          <p:cNvSpPr/>
          <p:nvPr/>
        </p:nvSpPr>
        <p:spPr>
          <a:xfrm>
            <a:off x="838080" y="5157720"/>
            <a:ext cx="7537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REMARQU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SONOMAMA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arrêt momentané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de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chronomètres)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fige le temps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YOSH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redémarrage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de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chronomètres)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3692520"/>
          <a:ext cx="7334280" cy="1098720"/>
        </p:xfrm>
        <a:graphic>
          <a:graphicData uri="http://schemas.openxmlformats.org/drawingml/2006/table">
            <a:tbl>
              <a:tblPr/>
              <a:tblGrid>
                <a:gridCol w="1989360"/>
                <a:gridCol w="1987560"/>
                <a:gridCol w="2057400"/>
                <a:gridCol w="1299960"/>
              </a:tblGrid>
              <a:tr h="398160"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I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ZA 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PP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catég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e 01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à 09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e 10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à 19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395280" y="1557360"/>
            <a:ext cx="8209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valeurs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(waza ari, ippon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ont acquises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ur des techniques ou des immobilisa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ur des pénalités de l’adversaire (seulement pour le Ippon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68360" y="4221000"/>
            <a:ext cx="8209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poi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s valeurs sont traduites en points, dans les poules, pour effectuer un classeme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WAZA AR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908000" y="3357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tient son adversair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en 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pendant 10 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mais moins de 20 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44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274920" y="238284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41" descr="waza-ari"/>
          <p:cNvPicPr/>
          <p:nvPr/>
        </p:nvPicPr>
        <p:blipFill>
          <a:blip r:embed="rId2"/>
          <a:stretch/>
        </p:blipFill>
        <p:spPr>
          <a:xfrm>
            <a:off x="179280" y="1700280"/>
            <a:ext cx="1517760" cy="252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IPP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908000" y="3357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SzPct val="20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tient son adversaire en 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pendant 20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44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346560" y="2340000"/>
          <a:ext cx="2593800" cy="654120"/>
        </p:xfrm>
        <a:graphic>
          <a:graphicData uri="http://schemas.openxmlformats.org/drawingml/2006/table">
            <a:tbl>
              <a:tblPr/>
              <a:tblGrid>
                <a:gridCol w="431640"/>
                <a:gridCol w="433440"/>
                <a:gridCol w="433440"/>
                <a:gridCol w="430200"/>
                <a:gridCol w="433440"/>
                <a:gridCol w="431640"/>
              </a:tblGrid>
              <a:tr h="31572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42" descr="shido"/>
          <p:cNvPicPr/>
          <p:nvPr/>
        </p:nvPicPr>
        <p:blipFill>
          <a:blip r:embed="rId2"/>
          <a:stretch/>
        </p:blipFill>
        <p:spPr>
          <a:xfrm>
            <a:off x="250920" y="4365720"/>
            <a:ext cx="108108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346560" y="5729400"/>
          <a:ext cx="2593800" cy="653760"/>
        </p:xfrm>
        <a:graphic>
          <a:graphicData uri="http://schemas.openxmlformats.org/drawingml/2006/table">
            <a:tbl>
              <a:tblPr/>
              <a:tblGrid>
                <a:gridCol w="431640"/>
                <a:gridCol w="433440"/>
                <a:gridCol w="433440"/>
                <a:gridCol w="430200"/>
                <a:gridCol w="433440"/>
                <a:gridCol w="431640"/>
              </a:tblGrid>
              <a:tr h="31572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78"/>
          <p:cNvSpPr/>
          <p:nvPr/>
        </p:nvSpPr>
        <p:spPr>
          <a:xfrm>
            <a:off x="1835280" y="4724280"/>
            <a:ext cx="5616360" cy="792360"/>
          </a:xfrm>
          <a:prstGeom prst="rect">
            <a:avLst/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Par équivalence, un combattant pénalisé  de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3 Shido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 permet à son adversaire de bénéficier automatiquement de l'équivalent d'un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ippon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79" descr="ippon"/>
          <p:cNvPicPr/>
          <p:nvPr/>
        </p:nvPicPr>
        <p:blipFill>
          <a:blip r:embed="rId3"/>
          <a:stretch/>
        </p:blipFill>
        <p:spPr>
          <a:xfrm>
            <a:off x="684360" y="907920"/>
            <a:ext cx="950760" cy="331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95280" y="126828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WAZA ARI AWAZATE IPP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773440" y="378936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Victoire par cumul de 2 waza ari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dans le même comb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24360" y="2852640"/>
          <a:ext cx="2595600" cy="654120"/>
        </p:xfrm>
        <a:graphic>
          <a:graphicData uri="http://schemas.openxmlformats.org/drawingml/2006/table">
            <a:tbl>
              <a:tblPr/>
              <a:tblGrid>
                <a:gridCol w="431640"/>
                <a:gridCol w="433440"/>
                <a:gridCol w="434880"/>
                <a:gridCol w="430200"/>
                <a:gridCol w="433440"/>
                <a:gridCol w="43200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79" descr="waza-ari-awasate-ippon"/>
          <p:cNvPicPr/>
          <p:nvPr/>
        </p:nvPicPr>
        <p:blipFill>
          <a:blip r:embed="rId1"/>
          <a:stretch/>
        </p:blipFill>
        <p:spPr>
          <a:xfrm>
            <a:off x="560520" y="2349360"/>
            <a:ext cx="1490400" cy="299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780000" y="5157720"/>
            <a:ext cx="28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258920" y="981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66ff"/>
                </a:solidFill>
                <a:latin typeface="Arial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66ff"/>
                </a:solidFill>
                <a:latin typeface="Arial"/>
              </a:rPr>
              <a:t>Pénalité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24000" y="2133720"/>
            <a:ext cx="84978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intervention : shido « pénalité » 00 / 00.1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shido « 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énalité » 00 / 00.2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Hansokumake « pénalité » 10 / 00.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357200" y="3860640"/>
          <a:ext cx="2638440" cy="1033560"/>
        </p:xfrm>
        <a:graphic>
          <a:graphicData uri="http://schemas.openxmlformats.org/drawingml/2006/table">
            <a:tbl>
              <a:tblPr/>
              <a:tblGrid>
                <a:gridCol w="378000"/>
                <a:gridCol w="376200"/>
                <a:gridCol w="376200"/>
                <a:gridCol w="378000"/>
                <a:gridCol w="372960"/>
                <a:gridCol w="379440"/>
                <a:gridCol w="37764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003640" y="3860640"/>
          <a:ext cx="2638440" cy="1033560"/>
        </p:xfrm>
        <a:graphic>
          <a:graphicData uri="http://schemas.openxmlformats.org/drawingml/2006/table">
            <a:tbl>
              <a:tblPr/>
              <a:tblGrid>
                <a:gridCol w="378000"/>
                <a:gridCol w="376200"/>
                <a:gridCol w="376200"/>
                <a:gridCol w="378000"/>
                <a:gridCol w="372960"/>
                <a:gridCol w="379440"/>
                <a:gridCol w="37764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203640" y="5157720"/>
          <a:ext cx="2638440" cy="1033560"/>
        </p:xfrm>
        <a:graphic>
          <a:graphicData uri="http://schemas.openxmlformats.org/drawingml/2006/table">
            <a:tbl>
              <a:tblPr/>
              <a:tblGrid>
                <a:gridCol w="377640"/>
                <a:gridCol w="376200"/>
                <a:gridCol w="376560"/>
                <a:gridCol w="377640"/>
                <a:gridCol w="372960"/>
                <a:gridCol w="379440"/>
                <a:gridCol w="37800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9" descr="annulation"/>
          <p:cNvPicPr/>
          <p:nvPr/>
        </p:nvPicPr>
        <p:blipFill>
          <a:blip r:embed="rId1"/>
          <a:stretch/>
        </p:blipFill>
        <p:spPr>
          <a:xfrm>
            <a:off x="179280" y="1197000"/>
            <a:ext cx="2954520" cy="4105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0"/>
          <p:cNvSpPr/>
          <p:nvPr/>
        </p:nvSpPr>
        <p:spPr>
          <a:xfrm>
            <a:off x="2843280" y="2637000"/>
            <a:ext cx="6011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orsque l'arbitre veut annuler la valeu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d'une action, il fera simultanément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 geste correspondant à la valeur e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 geste identique aux actions non valabl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611280" y="5229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'il désire modifier la valeur d'une action, il annulera p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e moyen la première valeur puis indiquera la valeur voulu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1763640" y="1557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ANNULATION D’UNE VALEU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95280" y="1413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KIKEN GASH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Victoire par aband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63640" y="4292640"/>
            <a:ext cx="69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combattant qui abandonne le combat pourra être repêché sauf si celui-ci n’en exprime pas le souhait ou qu’un avis médical hors tapis est défavorable à la repris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Au tour suivant, en cas d’absence, son adversaire sera déclaré vainqueur par </a:t>
            </a:r>
            <a:r>
              <a:rPr b="1" i="1" lang="fr-FR" sz="1800" spc="-1" strike="noStrike">
                <a:solidFill>
                  <a:srgbClr val="006699"/>
                </a:solidFill>
                <a:latin typeface="Verdana"/>
              </a:rPr>
              <a:t>FUSEN GACHI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40" descr="ippon"/>
          <p:cNvPicPr/>
          <p:nvPr/>
        </p:nvPicPr>
        <p:blipFill>
          <a:blip r:embed="rId1"/>
          <a:stretch/>
        </p:blipFill>
        <p:spPr>
          <a:xfrm>
            <a:off x="395280" y="1484280"/>
            <a:ext cx="12621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116160" y="2595600"/>
          <a:ext cx="2766960" cy="1011240"/>
        </p:xfrm>
        <a:graphic>
          <a:graphicData uri="http://schemas.openxmlformats.org/drawingml/2006/table">
            <a:tbl>
              <a:tblPr/>
              <a:tblGrid>
                <a:gridCol w="460440"/>
                <a:gridCol w="461880"/>
                <a:gridCol w="463680"/>
                <a:gridCol w="458640"/>
                <a:gridCol w="462240"/>
                <a:gridCol w="460080"/>
              </a:tblGrid>
              <a:tr h="4888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95280" y="1413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FUSEN GASH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Victoire par Forfai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63640" y="4005360"/>
            <a:ext cx="6913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combattant ne se présente pas à l’issue des 3 appels espacés de 1 mn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combattant se présente, salue et refuse le comba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combattant qui est forfait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pourra être repêché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78" descr="ippon"/>
          <p:cNvPicPr/>
          <p:nvPr/>
        </p:nvPicPr>
        <p:blipFill>
          <a:blip r:embed="rId1"/>
          <a:stretch/>
        </p:blipFill>
        <p:spPr>
          <a:xfrm>
            <a:off x="395280" y="1484280"/>
            <a:ext cx="12621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116160" y="2595600"/>
          <a:ext cx="2766960" cy="1011240"/>
        </p:xfrm>
        <a:graphic>
          <a:graphicData uri="http://schemas.openxmlformats.org/drawingml/2006/table">
            <a:tbl>
              <a:tblPr/>
              <a:tblGrid>
                <a:gridCol w="460440"/>
                <a:gridCol w="461880"/>
                <a:gridCol w="463680"/>
                <a:gridCol w="458640"/>
                <a:gridCol w="462240"/>
                <a:gridCol w="460080"/>
              </a:tblGrid>
              <a:tr h="4888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46:53Z</dcterms:modified>
  <cp:revision>108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7d4a36bc-f21a-4fc3-8fcc-c46b070c234b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4:42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