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383-1246-4AD3-B443-40D5BC6892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E1C5-ADDD-4FD7-9E36-3EBB20BD36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D230-E4E1-4222-8EF5-14B38BAEA4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FE01-9BA4-44FE-AB25-924BF37F62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322-C777-4711-B135-B0B3D4F2C0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99CB-1D3E-429D-95C0-D4BC4A10B3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A4D3-46AB-4A78-8527-38B5CAA00C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file://MYBOOKWORLD/usb1-1share1/JUDO/CS/S_0708/CDA_0708/Formation/StagesEcoles/SE1_201007/Pr&#233;sentation/ppt/0_sommaire_SE1_s78f0.pps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21/10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916360" y="6478560"/>
            <a:ext cx="3679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67360" y="6516720"/>
            <a:ext cx="1905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45B-2D91-4EC0-A67C-6FA32565745C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Text Box 16">
            <a:hlinkClick r:id="rId4"/>
          </p:cNvPr>
          <p:cNvSpPr/>
          <p:nvPr/>
        </p:nvSpPr>
        <p:spPr>
          <a:xfrm>
            <a:off x="8101080" y="609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Text Box 19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Picture 21" descr="logo_ligue"/>
          <p:cNvPicPr/>
          <p:nvPr/>
        </p:nvPicPr>
        <p:blipFill>
          <a:blip r:embed="rId5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es valeur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999"/>
                </a:solidFill>
                <a:latin typeface="Arial Black"/>
              </a:rPr>
              <a:t>Techniques et pénalité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395280" y="1557360"/>
            <a:ext cx="8209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valeurs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(waza ari, ippon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Sont acquises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Sur des techniques ou des immobilisa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Sur des pénalités de l’adversaire (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eulement pour le Ippon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68360" y="4221000"/>
            <a:ext cx="8209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poi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s valeurs sont traduites en points, dans les poules, pour effectuer un classeme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12682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WAZA AR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osae-komi"/>
          <p:cNvPicPr/>
          <p:nvPr/>
        </p:nvPicPr>
        <p:blipFill>
          <a:blip r:embed="rId1"/>
          <a:stretch/>
        </p:blipFill>
        <p:spPr>
          <a:xfrm>
            <a:off x="7596360" y="2565360"/>
            <a:ext cx="111744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3274920" y="231444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41" descr="waza-ari"/>
          <p:cNvPicPr/>
          <p:nvPr/>
        </p:nvPicPr>
        <p:blipFill>
          <a:blip r:embed="rId2"/>
          <a:stretch/>
        </p:blipFill>
        <p:spPr>
          <a:xfrm>
            <a:off x="179280" y="1700280"/>
            <a:ext cx="1517760" cy="2520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e 19"/>
          <p:cNvGrpSpPr/>
          <p:nvPr/>
        </p:nvGrpSpPr>
        <p:grpSpPr>
          <a:xfrm>
            <a:off x="2916360" y="4411800"/>
            <a:ext cx="3311280" cy="1105560"/>
            <a:chOff x="2916360" y="4411800"/>
            <a:chExt cx="3311280" cy="1105560"/>
          </a:xfrm>
        </p:grpSpPr>
        <p:sp>
          <p:nvSpPr>
            <p:cNvPr id="60" name="Connecteur droit 7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" name="Connecteur droit 14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" name="Connecteur droit 15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3" name="Connecteur droit 17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4" name="ZoneTexte 18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5" name="ZoneTexte 24"/>
            <p:cNvSpPr/>
            <p:nvPr/>
          </p:nvSpPr>
          <p:spPr>
            <a:xfrm>
              <a:off x="333036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6" name="ZoneTexte 26"/>
            <p:cNvSpPr/>
            <p:nvPr/>
          </p:nvSpPr>
          <p:spPr>
            <a:xfrm>
              <a:off x="4986360" y="479412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" name="ZoneTexte 27"/>
            <p:cNvSpPr/>
            <p:nvPr/>
          </p:nvSpPr>
          <p:spPr>
            <a:xfrm>
              <a:off x="4924440" y="518004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01 / 00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8" name="Rectangle 4"/>
          <p:cNvSpPr/>
          <p:nvPr/>
        </p:nvSpPr>
        <p:spPr>
          <a:xfrm>
            <a:off x="1762200" y="3360600"/>
            <a:ext cx="5761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SzPct val="20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lorsqu'un combattant tient son adversaire en </a:t>
            </a:r>
            <a:r>
              <a:rPr b="1" i="1" lang="fr-FR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pendant 10s mais moins de 2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12682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IPP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62200" y="3360600"/>
            <a:ext cx="5761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SzPct val="20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lorsqu'un combattant tient son adversaire en </a:t>
            </a:r>
            <a:r>
              <a:rPr b="1" i="1" lang="fr-FR" sz="1600" spc="-1" strike="noStrike">
                <a:solidFill>
                  <a:srgbClr val="006699"/>
                </a:solidFill>
                <a:latin typeface="Verdana"/>
              </a:rPr>
              <a:t>Osaekomi</a:t>
            </a: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 pendant 20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osae-komi"/>
          <p:cNvPicPr/>
          <p:nvPr/>
        </p:nvPicPr>
        <p:blipFill>
          <a:blip r:embed="rId1"/>
          <a:stretch/>
        </p:blipFill>
        <p:spPr>
          <a:xfrm>
            <a:off x="7596360" y="2565360"/>
            <a:ext cx="111744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3274920" y="234000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572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79" descr="ippon"/>
          <p:cNvPicPr/>
          <p:nvPr/>
        </p:nvPicPr>
        <p:blipFill>
          <a:blip r:embed="rId2"/>
          <a:stretch/>
        </p:blipFill>
        <p:spPr>
          <a:xfrm>
            <a:off x="684360" y="907920"/>
            <a:ext cx="950760" cy="33116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e 18"/>
          <p:cNvGrpSpPr/>
          <p:nvPr/>
        </p:nvGrpSpPr>
        <p:grpSpPr>
          <a:xfrm>
            <a:off x="2916360" y="4411800"/>
            <a:ext cx="3311280" cy="1105560"/>
            <a:chOff x="2916360" y="4411800"/>
            <a:chExt cx="3311280" cy="1105560"/>
          </a:xfrm>
        </p:grpSpPr>
        <p:sp>
          <p:nvSpPr>
            <p:cNvPr id="75" name="Connecteur droit 19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6" name="Connecteur droit 20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7" name="Connecteur droit 21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8" name="Connecteur droit 22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9" name="ZoneTexte 23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0" name="ZoneTexte 24"/>
            <p:cNvSpPr/>
            <p:nvPr/>
          </p:nvSpPr>
          <p:spPr>
            <a:xfrm>
              <a:off x="333036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1" name="ZoneTexte 26"/>
            <p:cNvSpPr/>
            <p:nvPr/>
          </p:nvSpPr>
          <p:spPr>
            <a:xfrm>
              <a:off x="4924440" y="518004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10 / 00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82" name="ZoneTexte 27"/>
          <p:cNvSpPr/>
          <p:nvPr/>
        </p:nvSpPr>
        <p:spPr>
          <a:xfrm>
            <a:off x="4824360" y="4819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CHILARD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95280" y="126828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WAZA ARI AWAZATE IPP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340000" y="312732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6699"/>
                </a:solidFill>
                <a:latin typeface="Verdana"/>
              </a:rPr>
              <a:t>Victoire par cumul de 2 waza ari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dans le même comb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74920" y="234936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608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79" descr="waza-ari-awasate-ippon"/>
          <p:cNvPicPr/>
          <p:nvPr/>
        </p:nvPicPr>
        <p:blipFill>
          <a:blip r:embed="rId1"/>
          <a:stretch/>
        </p:blipFill>
        <p:spPr>
          <a:xfrm>
            <a:off x="560520" y="2349360"/>
            <a:ext cx="1490400" cy="29973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e 18"/>
          <p:cNvGrpSpPr/>
          <p:nvPr/>
        </p:nvGrpSpPr>
        <p:grpSpPr>
          <a:xfrm>
            <a:off x="2916360" y="4411800"/>
            <a:ext cx="3311280" cy="1105560"/>
            <a:chOff x="2916360" y="4411800"/>
            <a:chExt cx="3311280" cy="1105560"/>
          </a:xfrm>
        </p:grpSpPr>
        <p:sp>
          <p:nvSpPr>
            <p:cNvPr id="88" name="Connecteur droit 6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9" name="Connecteur droit 7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0" name="Connecteur droit 8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1" name="Connecteur droit 9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ZoneTexte 10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ZoneTexte 11"/>
            <p:cNvSpPr/>
            <p:nvPr/>
          </p:nvSpPr>
          <p:spPr>
            <a:xfrm>
              <a:off x="333036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ZoneTexte 12"/>
            <p:cNvSpPr/>
            <p:nvPr/>
          </p:nvSpPr>
          <p:spPr>
            <a:xfrm>
              <a:off x="4924440" y="518004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02 / 00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5" name="ZoneTexte 13"/>
          <p:cNvSpPr/>
          <p:nvPr/>
        </p:nvSpPr>
        <p:spPr>
          <a:xfrm>
            <a:off x="4824360" y="4819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AYADI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2" descr="shido"/>
          <p:cNvPicPr/>
          <p:nvPr/>
        </p:nvPicPr>
        <p:blipFill>
          <a:blip r:embed="rId1"/>
          <a:stretch/>
        </p:blipFill>
        <p:spPr>
          <a:xfrm>
            <a:off x="324000" y="1989000"/>
            <a:ext cx="108108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74920" y="3362400"/>
          <a:ext cx="2594160" cy="654120"/>
        </p:xfrm>
        <a:graphic>
          <a:graphicData uri="http://schemas.openxmlformats.org/drawingml/2006/table">
            <a:tbl>
              <a:tblPr/>
              <a:tblGrid>
                <a:gridCol w="432000"/>
                <a:gridCol w="433440"/>
                <a:gridCol w="433080"/>
                <a:gridCol w="430200"/>
                <a:gridCol w="433440"/>
                <a:gridCol w="432000"/>
              </a:tblGrid>
              <a:tr h="31572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78"/>
          <p:cNvSpPr/>
          <p:nvPr/>
        </p:nvSpPr>
        <p:spPr>
          <a:xfrm>
            <a:off x="1908000" y="2347920"/>
            <a:ext cx="5616720" cy="792000"/>
          </a:xfrm>
          <a:prstGeom prst="rect">
            <a:avLst/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Par équivalence, un combattant pénalisé  de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3 Shido</a:t>
            </a: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 permet à son adversaire de bénéficier automatiquement de l'équivalent d'un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ippon</a:t>
            </a:r>
            <a:r>
              <a:rPr b="1" lang="fr-FR" sz="1400" spc="-1" strike="noStrike">
                <a:solidFill>
                  <a:srgbClr val="006699"/>
                </a:solidFill>
                <a:latin typeface="Verdan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12682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99"/>
                </a:solidFill>
                <a:latin typeface="Verdana"/>
              </a:rPr>
              <a:t>IPP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0" name="Groupe 24"/>
          <p:cNvGrpSpPr/>
          <p:nvPr/>
        </p:nvGrpSpPr>
        <p:grpSpPr>
          <a:xfrm>
            <a:off x="2916360" y="4411800"/>
            <a:ext cx="3311280" cy="1105560"/>
            <a:chOff x="2916360" y="4411800"/>
            <a:chExt cx="3311280" cy="1105560"/>
          </a:xfrm>
        </p:grpSpPr>
        <p:sp>
          <p:nvSpPr>
            <p:cNvPr id="101" name="Connecteur droit 25"/>
            <p:cNvSpPr/>
            <p:nvPr/>
          </p:nvSpPr>
          <p:spPr>
            <a:xfrm>
              <a:off x="2916360" y="4705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Connecteur droit 26"/>
            <p:cNvSpPr/>
            <p:nvPr/>
          </p:nvSpPr>
          <p:spPr>
            <a:xfrm>
              <a:off x="2916360" y="549756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Connecteur droit 27"/>
            <p:cNvSpPr/>
            <p:nvPr/>
          </p:nvSpPr>
          <p:spPr>
            <a:xfrm>
              <a:off x="4572000" y="470520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Connecteur droit 28"/>
            <p:cNvSpPr/>
            <p:nvPr/>
          </p:nvSpPr>
          <p:spPr>
            <a:xfrm>
              <a:off x="4572000" y="5137200"/>
              <a:ext cx="165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ZoneTexte 29"/>
            <p:cNvSpPr/>
            <p:nvPr/>
          </p:nvSpPr>
          <p:spPr>
            <a:xfrm>
              <a:off x="3168720" y="44118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CHILARD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ZoneTexte 30"/>
            <p:cNvSpPr/>
            <p:nvPr/>
          </p:nvSpPr>
          <p:spPr>
            <a:xfrm>
              <a:off x="3330360" y="5180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ZoneTexte 31"/>
            <p:cNvSpPr/>
            <p:nvPr/>
          </p:nvSpPr>
          <p:spPr>
            <a:xfrm>
              <a:off x="4986360" y="479412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AYADI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ZoneTexte 32"/>
            <p:cNvSpPr/>
            <p:nvPr/>
          </p:nvSpPr>
          <p:spPr>
            <a:xfrm>
              <a:off x="4819680" y="5159520"/>
              <a:ext cx="116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6699"/>
                  </a:solidFill>
                  <a:latin typeface="Verdana"/>
                </a:rPr>
                <a:t>10 / 00.3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733920" y="501336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58920" y="981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66ff"/>
                </a:solidFill>
                <a:latin typeface="Arial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66ff"/>
                </a:solidFill>
                <a:latin typeface="Arial"/>
              </a:rPr>
              <a:t>Pénalité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4000" y="2133720"/>
            <a:ext cx="849780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intervention : shido « pénalité » 00 / 00.1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tervention : shido « 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énalité » 00 / 00.2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812880" indent="-277920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tervention : shido « 3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énalité » 10 / 00.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57200" y="3716280"/>
          <a:ext cx="2638440" cy="1033560"/>
        </p:xfrm>
        <a:graphic>
          <a:graphicData uri="http://schemas.openxmlformats.org/drawingml/2006/table">
            <a:tbl>
              <a:tblPr/>
              <a:tblGrid>
                <a:gridCol w="378000"/>
                <a:gridCol w="376200"/>
                <a:gridCol w="376200"/>
                <a:gridCol w="378000"/>
                <a:gridCol w="372960"/>
                <a:gridCol w="379440"/>
                <a:gridCol w="37764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003640" y="3716280"/>
          <a:ext cx="2638440" cy="1033560"/>
        </p:xfrm>
        <a:graphic>
          <a:graphicData uri="http://schemas.openxmlformats.org/drawingml/2006/table">
            <a:tbl>
              <a:tblPr/>
              <a:tblGrid>
                <a:gridCol w="378000"/>
                <a:gridCol w="376200"/>
                <a:gridCol w="376200"/>
                <a:gridCol w="378000"/>
                <a:gridCol w="372960"/>
                <a:gridCol w="379440"/>
                <a:gridCol w="37764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157560" y="5013360"/>
          <a:ext cx="2638440" cy="1033560"/>
        </p:xfrm>
        <a:graphic>
          <a:graphicData uri="http://schemas.openxmlformats.org/drawingml/2006/table">
            <a:tbl>
              <a:tblPr/>
              <a:tblGrid>
                <a:gridCol w="377640"/>
                <a:gridCol w="376560"/>
                <a:gridCol w="376200"/>
                <a:gridCol w="377640"/>
                <a:gridCol w="372960"/>
                <a:gridCol w="379440"/>
                <a:gridCol w="378000"/>
              </a:tblGrid>
              <a:tr h="44460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9" descr="annulation"/>
          <p:cNvPicPr/>
          <p:nvPr/>
        </p:nvPicPr>
        <p:blipFill>
          <a:blip r:embed="rId1"/>
          <a:stretch/>
        </p:blipFill>
        <p:spPr>
          <a:xfrm>
            <a:off x="179280" y="1197000"/>
            <a:ext cx="2954520" cy="4105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0"/>
          <p:cNvSpPr/>
          <p:nvPr/>
        </p:nvSpPr>
        <p:spPr>
          <a:xfrm>
            <a:off x="2843280" y="2637000"/>
            <a:ext cx="6011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orsque l'arbitre veut annuler la valeu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d'une action, il fera simultanément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 geste correspondant à la valeur e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le geste identique aux actions non valabl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Rectangle 31"/>
          <p:cNvSpPr/>
          <p:nvPr/>
        </p:nvSpPr>
        <p:spPr>
          <a:xfrm>
            <a:off x="611280" y="52293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S'il désire modifier la valeur d'une action, il annulera p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ce moyen la première valeur puis indiquera la valeur voulu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Rectangle 32"/>
          <p:cNvSpPr/>
          <p:nvPr/>
        </p:nvSpPr>
        <p:spPr>
          <a:xfrm>
            <a:off x="1763640" y="1557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ANNULATION D’UNE VALEU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46:57Z</dcterms:modified>
  <cp:revision>110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2ca2c14f-74ae-4c03-acdb-56441202d379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3:08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