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A9E94E-FA6C-4A1B-8B0D-B99279D86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857B24-BBFE-4F00-BEE4-94155912ED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D882DD-BCED-4578-8EB7-D7302C1E4A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BC0381-5194-49A8-8507-ACD21D3213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AA0338-3C0A-4DC8-8A29-0BC18EA761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46CD70-DE08-4671-B6E7-0259EB5D9A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BEA9B2-6542-491E-977F-D89DCEB9F0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C816B4-3090-42C5-8449-FB5ADD95BE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3C01C4F9-0ED1-4602-804F-504AC9C9AA5B}" type="slidenum">
              <a:rPr b="0" lang="fr-FR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290520" y="6550200"/>
            <a:ext cx="190476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8"/>
          <p:cNvSpPr/>
          <p:nvPr/>
        </p:nvSpPr>
        <p:spPr>
          <a:xfrm>
            <a:off x="2771640" y="6550200"/>
            <a:ext cx="389520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6804000" y="654192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B0FD1F0D-8D37-4DE9-8EC9-514862D34B89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900000" y="260280"/>
            <a:ext cx="7467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Comité Départemental de Loire Atlan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1" descr=""/>
          <p:cNvPicPr/>
          <p:nvPr/>
        </p:nvPicPr>
        <p:blipFill>
          <a:blip r:embed="rId3"/>
          <a:stretch/>
        </p:blipFill>
        <p:spPr>
          <a:xfrm>
            <a:off x="8160480" y="178560"/>
            <a:ext cx="783000" cy="783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1" descr="logo_ligue"/>
          <p:cNvPicPr/>
          <p:nvPr/>
        </p:nvPicPr>
        <p:blipFill>
          <a:blip r:embed="rId4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2"/>
          <p:cNvSpPr/>
          <p:nvPr/>
        </p:nvSpPr>
        <p:spPr>
          <a:xfrm>
            <a:off x="395280" y="2565360"/>
            <a:ext cx="84578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fr-FR" sz="6000" spc="-1" strike="noStrike">
                <a:solidFill>
                  <a:srgbClr val="ff3300"/>
                </a:solidFill>
                <a:latin typeface="Arial Black"/>
              </a:rPr>
              <a:t>La Re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r>
              <a:rPr b="0" lang="fr-FR" sz="5400" spc="-1" strike="noStrike">
                <a:solidFill>
                  <a:srgbClr val="ff3300"/>
                </a:solidFill>
                <a:latin typeface="Arial Black"/>
              </a:rPr>
              <a:t>Grade / championn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Tableau 1"/>
          <p:cNvGraphicFramePr/>
          <p:nvPr/>
        </p:nvGraphicFramePr>
        <p:xfrm>
          <a:off x="468360" y="1341360"/>
          <a:ext cx="8280000" cy="5040000"/>
        </p:xfrm>
        <a:graphic>
          <a:graphicData uri="http://schemas.openxmlformats.org/drawingml/2006/table">
            <a:tbl>
              <a:tblPr/>
              <a:tblGrid>
                <a:gridCol w="1275840"/>
                <a:gridCol w="665280"/>
                <a:gridCol w="1056240"/>
                <a:gridCol w="1056240"/>
                <a:gridCol w="1056240"/>
                <a:gridCol w="1056240"/>
                <a:gridCol w="1056240"/>
                <a:gridCol w="1056960"/>
              </a:tblGrid>
              <a:tr h="438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Nom Prén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Gr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com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° com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com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° com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° com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i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a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r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re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ï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th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8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64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5">
                        <a:lumMod val="75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3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1052640"/>
            <a:ext cx="914364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Qu’est ce que la relation grade Championn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87280" y="2709000"/>
            <a:ext cx="856908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a relation grade championnat est le système mis en place par la FFJDA pour comptabilisés les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points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marqués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 sur chaque victoire d’un combattant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pour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obtenir son grade de ceinture n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94480" y="436500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Il ne s’applique pas à toute les compé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94480" y="5157360"/>
            <a:ext cx="856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a validation des points est géré par l’organisme CORG (Comité d'Organisation Régional des Gr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1052640"/>
            <a:ext cx="914364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Attribution des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50920" y="1989000"/>
            <a:ext cx="85690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omptabilisation des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Waza ari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et de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Ippon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obtenus par une action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es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pénalité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ne seront pas prises en compte pour l’attribution de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Group 39"/>
          <p:cNvGraphicFramePr/>
          <p:nvPr/>
        </p:nvGraphicFramePr>
        <p:xfrm>
          <a:off x="1763640" y="3500280"/>
          <a:ext cx="5709960" cy="2665080"/>
        </p:xfrm>
        <a:graphic>
          <a:graphicData uri="http://schemas.openxmlformats.org/drawingml/2006/table">
            <a:tbl>
              <a:tblPr/>
              <a:tblGrid>
                <a:gridCol w="3452760"/>
                <a:gridCol w="1196640"/>
                <a:gridCol w="1060200"/>
              </a:tblGrid>
              <a:tr h="37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0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za-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p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grade inféri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x grades inférieurs et 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ident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grade supéri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x grades supérieurs et 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0" y="1052640"/>
            <a:ext cx="914364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Obtention du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87280" y="2349000"/>
            <a:ext cx="856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StarSymbol"/>
              <a:buChar char="-"/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n combattant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ceinture marron ou 1</a:t>
            </a:r>
            <a:r>
              <a:rPr b="0" lang="fr-FR" sz="2000" spc="-1" strike="noStrike" baseline="30000">
                <a:solidFill>
                  <a:srgbClr val="006699"/>
                </a:solidFill>
                <a:latin typeface="Verdana"/>
              </a:rPr>
              <a:t>er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Dan devra obteni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241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100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 points 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pour obtenir son grade de 1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er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Dan ou 2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n combattant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Dan ou 3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Dan devra obteni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24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120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 points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pour obtenir son grade de 3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er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Dan ou 4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Group 191"/>
          <p:cNvGraphicFramePr/>
          <p:nvPr/>
        </p:nvGraphicFramePr>
        <p:xfrm>
          <a:off x="2307600" y="1093320"/>
          <a:ext cx="4384440" cy="1158480"/>
        </p:xfrm>
        <a:graphic>
          <a:graphicData uri="http://schemas.openxmlformats.org/drawingml/2006/table">
            <a:tbl>
              <a:tblPr/>
              <a:tblGrid>
                <a:gridCol w="730080"/>
                <a:gridCol w="731520"/>
                <a:gridCol w="730080"/>
                <a:gridCol w="730080"/>
                <a:gridCol w="731520"/>
                <a:gridCol w="730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Group 136"/>
          <p:cNvGraphicFramePr/>
          <p:nvPr/>
        </p:nvGraphicFramePr>
        <p:xfrm>
          <a:off x="2340000" y="3024360"/>
          <a:ext cx="4103280" cy="2468160"/>
        </p:xfrm>
        <a:graphic>
          <a:graphicData uri="http://schemas.openxmlformats.org/drawingml/2006/table">
            <a:tbl>
              <a:tblPr/>
              <a:tblGrid>
                <a:gridCol w="2392200"/>
                <a:gridCol w="847440"/>
                <a:gridCol w="863280"/>
              </a:tblGrid>
              <a:tr h="6397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za-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inf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inf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iden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sup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sup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71"/>
          <p:cNvSpPr/>
          <p:nvPr/>
        </p:nvSpPr>
        <p:spPr>
          <a:xfrm>
            <a:off x="179280" y="2421000"/>
            <a:ext cx="8640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Symbol" charset="2"/>
              <a:buChar char=""/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Victoire par Waza 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4680000" y="2987640"/>
            <a:ext cx="931680" cy="2541240"/>
          </a:xfrm>
          <a:prstGeom prst="rect">
            <a:avLst/>
          </a:prstGeom>
          <a:noFill/>
          <a:ln cap="sq" w="889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9"/>
          <p:cNvSpPr/>
          <p:nvPr/>
        </p:nvSpPr>
        <p:spPr>
          <a:xfrm>
            <a:off x="1746360" y="1692360"/>
            <a:ext cx="502920" cy="447480"/>
          </a:xfrm>
          <a:prstGeom prst="ellipse">
            <a:avLst/>
          </a:prstGeom>
          <a:noFill/>
          <a:ln w="50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Group 193"/>
          <p:cNvGraphicFramePr/>
          <p:nvPr/>
        </p:nvGraphicFramePr>
        <p:xfrm>
          <a:off x="2340000" y="3024360"/>
          <a:ext cx="4103280" cy="2468160"/>
        </p:xfrm>
        <a:graphic>
          <a:graphicData uri="http://schemas.openxmlformats.org/drawingml/2006/table">
            <a:tbl>
              <a:tblPr/>
              <a:tblGrid>
                <a:gridCol w="2392200"/>
                <a:gridCol w="847440"/>
                <a:gridCol w="863280"/>
              </a:tblGrid>
              <a:tr h="6397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za-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inf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inf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iden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sup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sup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77"/>
          <p:cNvSpPr/>
          <p:nvPr/>
        </p:nvSpPr>
        <p:spPr>
          <a:xfrm>
            <a:off x="179280" y="2421000"/>
            <a:ext cx="8640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Symbol" charset="2"/>
              <a:buChar char=""/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Victoire par Ip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4"/>
          <p:cNvSpPr/>
          <p:nvPr/>
        </p:nvSpPr>
        <p:spPr>
          <a:xfrm>
            <a:off x="5543640" y="2987640"/>
            <a:ext cx="931680" cy="2541240"/>
          </a:xfrm>
          <a:prstGeom prst="rect">
            <a:avLst/>
          </a:prstGeom>
          <a:noFill/>
          <a:ln cap="sq" w="889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90"/>
          <p:cNvSpPr/>
          <p:nvPr/>
        </p:nvSpPr>
        <p:spPr>
          <a:xfrm>
            <a:off x="1022400" y="1700280"/>
            <a:ext cx="502920" cy="447480"/>
          </a:xfrm>
          <a:prstGeom prst="ellipse">
            <a:avLst/>
          </a:prstGeom>
          <a:noFill/>
          <a:ln w="50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Group 191"/>
          <p:cNvGraphicFramePr/>
          <p:nvPr/>
        </p:nvGraphicFramePr>
        <p:xfrm>
          <a:off x="2307600" y="1093320"/>
          <a:ext cx="4384440" cy="1158480"/>
        </p:xfrm>
        <a:graphic>
          <a:graphicData uri="http://schemas.openxmlformats.org/drawingml/2006/table">
            <a:tbl>
              <a:tblPr/>
              <a:tblGrid>
                <a:gridCol w="730080"/>
                <a:gridCol w="731520"/>
                <a:gridCol w="730080"/>
                <a:gridCol w="730080"/>
                <a:gridCol w="731520"/>
                <a:gridCol w="730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Group 120"/>
          <p:cNvGraphicFramePr/>
          <p:nvPr/>
        </p:nvGraphicFramePr>
        <p:xfrm>
          <a:off x="2340000" y="3024360"/>
          <a:ext cx="4103280" cy="2468160"/>
        </p:xfrm>
        <a:graphic>
          <a:graphicData uri="http://schemas.openxmlformats.org/drawingml/2006/table">
            <a:tbl>
              <a:tblPr/>
              <a:tblGrid>
                <a:gridCol w="2392200"/>
                <a:gridCol w="847440"/>
                <a:gridCol w="863280"/>
              </a:tblGrid>
              <a:tr h="6397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za-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inf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inf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iden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sup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sup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71"/>
          <p:cNvSpPr/>
          <p:nvPr/>
        </p:nvSpPr>
        <p:spPr>
          <a:xfrm>
            <a:off x="179280" y="2421000"/>
            <a:ext cx="37749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1440" indent="-54144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Symbol" charset="2"/>
              <a:buChar char=""/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Victoire par 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dé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6"/>
          <p:cNvSpPr/>
          <p:nvPr/>
        </p:nvSpPr>
        <p:spPr>
          <a:xfrm>
            <a:off x="2475000" y="1700280"/>
            <a:ext cx="502920" cy="447480"/>
          </a:xfrm>
          <a:prstGeom prst="ellipse">
            <a:avLst/>
          </a:prstGeom>
          <a:noFill/>
          <a:ln w="50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1"/>
          <p:cNvSpPr/>
          <p:nvPr/>
        </p:nvSpPr>
        <p:spPr>
          <a:xfrm>
            <a:off x="3708000" y="2421000"/>
            <a:ext cx="525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Les waza ari techniques s’annu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roix 1"/>
          <p:cNvSpPr/>
          <p:nvPr/>
        </p:nvSpPr>
        <p:spPr>
          <a:xfrm rot="2658600">
            <a:off x="4430520" y="3327120"/>
            <a:ext cx="2293560" cy="2296800"/>
          </a:xfrm>
          <a:prstGeom prst="plus">
            <a:avLst>
              <a:gd name="adj" fmla="val 44481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6" name="Flèche droite 2"/>
          <p:cNvSpPr/>
          <p:nvPr/>
        </p:nvSpPr>
        <p:spPr>
          <a:xfrm>
            <a:off x="6516720" y="3946680"/>
            <a:ext cx="1294920" cy="86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a6a"/>
          </a:solidFill>
          <a:ln>
            <a:solidFill>
              <a:srgbClr val="00ea6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7885080" y="3716280"/>
            <a:ext cx="764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Group 191"/>
          <p:cNvGraphicFramePr/>
          <p:nvPr/>
        </p:nvGraphicFramePr>
        <p:xfrm>
          <a:off x="2307600" y="1093320"/>
          <a:ext cx="4384440" cy="1158480"/>
        </p:xfrm>
        <a:graphic>
          <a:graphicData uri="http://schemas.openxmlformats.org/drawingml/2006/table">
            <a:tbl>
              <a:tblPr/>
              <a:tblGrid>
                <a:gridCol w="730080"/>
                <a:gridCol w="731520"/>
                <a:gridCol w="730080"/>
                <a:gridCol w="730080"/>
                <a:gridCol w="731520"/>
                <a:gridCol w="730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Group 138"/>
          <p:cNvGraphicFramePr/>
          <p:nvPr/>
        </p:nvGraphicFramePr>
        <p:xfrm>
          <a:off x="2340000" y="3024360"/>
          <a:ext cx="4103280" cy="2468160"/>
        </p:xfrm>
        <a:graphic>
          <a:graphicData uri="http://schemas.openxmlformats.org/drawingml/2006/table">
            <a:tbl>
              <a:tblPr/>
              <a:tblGrid>
                <a:gridCol w="2392200"/>
                <a:gridCol w="847440"/>
                <a:gridCol w="863280"/>
              </a:tblGrid>
              <a:tr h="6397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za-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inf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inf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iden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sup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sup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71"/>
          <p:cNvSpPr/>
          <p:nvPr/>
        </p:nvSpPr>
        <p:spPr>
          <a:xfrm>
            <a:off x="179280" y="2421000"/>
            <a:ext cx="8640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Symbol" charset="2"/>
              <a:buChar char=""/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Victoire par Waza ari awazate ip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4"/>
          <p:cNvSpPr/>
          <p:nvPr/>
        </p:nvSpPr>
        <p:spPr>
          <a:xfrm>
            <a:off x="5543640" y="2987640"/>
            <a:ext cx="931680" cy="2541240"/>
          </a:xfrm>
          <a:prstGeom prst="rect">
            <a:avLst/>
          </a:prstGeom>
          <a:noFill/>
          <a:ln cap="sq" w="889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91"/>
          <p:cNvSpPr/>
          <p:nvPr/>
        </p:nvSpPr>
        <p:spPr>
          <a:xfrm>
            <a:off x="1728720" y="1692360"/>
            <a:ext cx="502920" cy="447480"/>
          </a:xfrm>
          <a:prstGeom prst="ellipse">
            <a:avLst/>
          </a:prstGeom>
          <a:noFill/>
          <a:ln w="50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Group 191"/>
          <p:cNvGraphicFramePr/>
          <p:nvPr/>
        </p:nvGraphicFramePr>
        <p:xfrm>
          <a:off x="2307600" y="1093320"/>
          <a:ext cx="4384440" cy="1158480"/>
        </p:xfrm>
        <a:graphic>
          <a:graphicData uri="http://schemas.openxmlformats.org/drawingml/2006/table">
            <a:tbl>
              <a:tblPr/>
              <a:tblGrid>
                <a:gridCol w="730080"/>
                <a:gridCol w="731520"/>
                <a:gridCol w="730080"/>
                <a:gridCol w="730080"/>
                <a:gridCol w="731520"/>
                <a:gridCol w="730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Group 191"/>
          <p:cNvGraphicFramePr/>
          <p:nvPr/>
        </p:nvGraphicFramePr>
        <p:xfrm>
          <a:off x="2307600" y="1093320"/>
          <a:ext cx="4384440" cy="1158480"/>
        </p:xfrm>
        <a:graphic>
          <a:graphicData uri="http://schemas.openxmlformats.org/drawingml/2006/table">
            <a:tbl>
              <a:tblPr/>
              <a:tblGrid>
                <a:gridCol w="730080"/>
                <a:gridCol w="731520"/>
                <a:gridCol w="730080"/>
                <a:gridCol w="730080"/>
                <a:gridCol w="731520"/>
                <a:gridCol w="7300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Group 124"/>
          <p:cNvGraphicFramePr/>
          <p:nvPr/>
        </p:nvGraphicFramePr>
        <p:xfrm>
          <a:off x="2340000" y="3024360"/>
          <a:ext cx="4103280" cy="2468160"/>
        </p:xfrm>
        <a:graphic>
          <a:graphicData uri="http://schemas.openxmlformats.org/drawingml/2006/table">
            <a:tbl>
              <a:tblPr/>
              <a:tblGrid>
                <a:gridCol w="2392200"/>
                <a:gridCol w="847440"/>
                <a:gridCol w="863280"/>
              </a:tblGrid>
              <a:tr h="6397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za-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inf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inf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iden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rade supéri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rades supérieurs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71"/>
          <p:cNvSpPr/>
          <p:nvPr/>
        </p:nvSpPr>
        <p:spPr>
          <a:xfrm>
            <a:off x="179280" y="2421000"/>
            <a:ext cx="3744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Symbol" charset="2"/>
              <a:buChar char=""/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Victoire par Ipp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0"/>
          <p:cNvSpPr/>
          <p:nvPr/>
        </p:nvSpPr>
        <p:spPr>
          <a:xfrm>
            <a:off x="2340000" y="5543640"/>
            <a:ext cx="4103280" cy="62028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Verdana"/>
              </a:rPr>
              <a:t>Les pénalités ne sont pas prises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Verdana"/>
              </a:rPr>
              <a:t>comptes pour l’attribution des 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0"/>
          <p:cNvSpPr/>
          <p:nvPr/>
        </p:nvSpPr>
        <p:spPr>
          <a:xfrm>
            <a:off x="2420640" y="1726200"/>
            <a:ext cx="502920" cy="447480"/>
          </a:xfrm>
          <a:prstGeom prst="ellipse">
            <a:avLst/>
          </a:prstGeom>
          <a:noFill/>
          <a:ln w="50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roix 12"/>
          <p:cNvSpPr/>
          <p:nvPr/>
        </p:nvSpPr>
        <p:spPr>
          <a:xfrm rot="2658600">
            <a:off x="4430520" y="3327120"/>
            <a:ext cx="2293560" cy="2296800"/>
          </a:xfrm>
          <a:prstGeom prst="plus">
            <a:avLst>
              <a:gd name="adj" fmla="val 44481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lèche droite 13"/>
          <p:cNvSpPr/>
          <p:nvPr/>
        </p:nvSpPr>
        <p:spPr>
          <a:xfrm>
            <a:off x="6516720" y="3946680"/>
            <a:ext cx="1294920" cy="86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a6a"/>
          </a:solidFill>
          <a:ln>
            <a:solidFill>
              <a:srgbClr val="00ea6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ZoneTexte 14"/>
          <p:cNvSpPr/>
          <p:nvPr/>
        </p:nvSpPr>
        <p:spPr>
          <a:xfrm>
            <a:off x="7885080" y="3716280"/>
            <a:ext cx="764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78"/>
          <p:cNvSpPr/>
          <p:nvPr/>
        </p:nvSpPr>
        <p:spPr>
          <a:xfrm>
            <a:off x="6052680" y="1726200"/>
            <a:ext cx="502920" cy="447480"/>
          </a:xfrm>
          <a:prstGeom prst="ellipse">
            <a:avLst/>
          </a:prstGeom>
          <a:noFill/>
          <a:ln w="508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  <Words>549</Words>
  <Paragraphs>299</Paragraphs>
  <Company>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53:59Z</dcterms:modified>
  <cp:revision>174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f5e5d1ad-d2dc-4577-8a1a-9037cea117e0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53:46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Notes">
    <vt:r8>8</vt:r8>
  </property>
  <property fmtid="{D5CDD505-2E9C-101B-9397-08002B2CF9AE}" pid="11" name="PresentationFormat">
    <vt:lpwstr>Affichage à l'écran (4:3)</vt:lpwstr>
  </property>
  <property fmtid="{D5CDD505-2E9C-101B-9397-08002B2CF9AE}" pid="12" name="Propriétaire">
    <vt:lpwstr>Jean Claude VIALETTE</vt:lpwstr>
  </property>
  <property fmtid="{D5CDD505-2E9C-101B-9397-08002B2CF9AE}" pid="13" name="Slides">
    <vt:r8>10</vt:r8>
  </property>
</Properties>
</file>