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fond écr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fjudo"/>
          <p:cNvPicPr/>
          <p:nvPr/>
        </p:nvPicPr>
        <p:blipFill>
          <a:blip r:embed="rId3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0"/>
          <p:cNvSpPr/>
          <p:nvPr/>
        </p:nvSpPr>
        <p:spPr>
          <a:xfrm>
            <a:off x="290520" y="651348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21/10/2022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3124080" y="6513480"/>
            <a:ext cx="36086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04000" y="6480000"/>
            <a:ext cx="1905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9925-B30B-4CB7-A237-929092520773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Text Box 20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Rectangle 21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" name="Picture 22" descr="logo_ligue"/>
          <p:cNvPicPr/>
          <p:nvPr/>
        </p:nvPicPr>
        <p:blipFill>
          <a:blip r:embed="rId4"/>
          <a:stretch/>
        </p:blipFill>
        <p:spPr>
          <a:xfrm>
            <a:off x="324000" y="189000"/>
            <a:ext cx="59688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95280" y="256536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La Pesée : Contrôle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De l’inscription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98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Le contrôle du po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Image 2" descr=""/>
          <p:cNvPicPr/>
          <p:nvPr/>
        </p:nvPicPr>
        <p:blipFill>
          <a:blip r:embed="rId1"/>
          <a:stretch/>
        </p:blipFill>
        <p:spPr>
          <a:xfrm>
            <a:off x="85680" y="1916280"/>
            <a:ext cx="8972640" cy="3600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85680" y="5589720"/>
            <a:ext cx="88790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ors du contrôle, si toutes les balances n’indiquent pas toutes le même poids :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9999"/>
                </a:solidFill>
                <a:latin typeface="Verdana"/>
              </a:rPr>
              <a:t>Le poids désigné par </a:t>
            </a:r>
            <a:r>
              <a:rPr b="0" lang="fr-FR" sz="1600" spc="-1" strike="noStrike">
                <a:solidFill>
                  <a:srgbClr val="ff0000"/>
                </a:solidFill>
                <a:latin typeface="Verdana"/>
              </a:rPr>
              <a:t>la balance la plus favorable </a:t>
            </a:r>
            <a:r>
              <a:rPr b="0" lang="fr-FR" sz="1600" spc="-1" strike="noStrike">
                <a:solidFill>
                  <a:srgbClr val="009999"/>
                </a:solidFill>
                <a:latin typeface="Verdana"/>
              </a:rPr>
              <a:t>aux combattants est retenu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5680" y="1474920"/>
            <a:ext cx="89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Les combattants doivent être au poids à la fin du temps imparti à la pesé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1" descr=""/>
          <p:cNvPicPr/>
          <p:nvPr/>
        </p:nvPicPr>
        <p:blipFill>
          <a:blip r:embed="rId1"/>
          <a:stretch/>
        </p:blipFill>
        <p:spPr>
          <a:xfrm>
            <a:off x="517680" y="1517760"/>
            <a:ext cx="8156520" cy="4157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0" y="98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Présentation du combatta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98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Le contrôle du po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50920" y="162864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Une fois le combattant sur la balance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Déterminer la catégorie du poids du combattan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Ne pas hésitez à mentionner le poids relever à votre collègue mais également au combattan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50920" y="3156120"/>
            <a:ext cx="864216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Saisie du poids Exact sur l’ordinateur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1 seule chiffre après la virgule. Quelques exemples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Féminine affichage à 56,38kg sur la balanc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Application d’une tolérance (mineur ou majeur ?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Catégorie -57kg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Saisi du </a:t>
            </a:r>
            <a:r>
              <a:rPr b="0" lang="fr-FR" sz="1800" spc="-1" strike="noStrike" u="sng">
                <a:solidFill>
                  <a:srgbClr val="006699"/>
                </a:solidFill>
                <a:uFillTx/>
                <a:latin typeface="Verdana"/>
              </a:rPr>
              <a:t>poids exact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 sur l’ordinateur comme ceci : 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56,3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50920" y="5187960"/>
            <a:ext cx="86421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Autres exemples :</a:t>
            </a:r>
            <a:br>
              <a:rPr sz="1800"/>
            </a:b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Masculin mineur pesée 46,15 sur la balanc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Quel catégorie ? Que note on 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68360" y="1844640"/>
            <a:ext cx="820728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Verdana"/>
                <a:ea typeface="Verdana"/>
              </a:rPr>
              <a:t>Dans la salle de pesée :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907920" indent="-285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907920" indent="-285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  <a:ea typeface="Verdana"/>
              </a:rPr>
              <a:t>Interdiction de sortir un appareil ayant un appareil photo ou caméra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  <a:ea typeface="Verdana"/>
              </a:rPr>
              <a:t>	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  <a:ea typeface="Verdana"/>
              </a:rPr>
              <a:t>(appareil photo, caméra,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  <a:ea typeface="Verdana"/>
              </a:rPr>
              <a:t>smartphone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  <a:ea typeface="Verdana"/>
              </a:rPr>
              <a:t>, tablette, …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90792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907920" indent="-2854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  <a:ea typeface="Verdana"/>
              </a:rPr>
              <a:t>C’est valable pour toutes les personnes présentes lors de la pesée  (Combattant, commissaire sportif, accompagnants, parents, …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907920" indent="-2854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907920" indent="-2854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  <a:ea typeface="Verdana"/>
              </a:rPr>
              <a:t>Les combattants se présentant avec des données à contrôler (tel que la licence) sur leur smartphone doit se faire avec le responsable de pesées à l’écart des autre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98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Règle générique à la pesé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981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En cas d’anomalie 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33280" y="1700280"/>
            <a:ext cx="8675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Toute </a:t>
            </a:r>
            <a:r>
              <a:rPr b="0" lang="fr-FR" sz="1600" spc="-1" strike="noStrike">
                <a:solidFill>
                  <a:srgbClr val="ff0000"/>
                </a:solidFill>
                <a:latin typeface="Verdana"/>
              </a:rPr>
              <a:t>anomalie</a:t>
            </a: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 constatée doit être rapporté au </a:t>
            </a:r>
            <a:r>
              <a:rPr b="0" lang="fr-FR" sz="1600" spc="-1" strike="noStrike">
                <a:solidFill>
                  <a:srgbClr val="ff0000"/>
                </a:solidFill>
                <a:latin typeface="Verdana"/>
              </a:rPr>
              <a:t>responsable de pesée</a:t>
            </a: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6699"/>
                </a:solidFill>
                <a:uFillTx/>
                <a:latin typeface="Verdana"/>
              </a:rPr>
              <a:t>Le commissaire sportif doit impérativement s’assurer </a:t>
            </a:r>
            <a:r>
              <a:rPr b="0" lang="fr-FR" sz="1600" spc="-1" strike="noStrike" u="sng">
                <a:solidFill>
                  <a:srgbClr val="006699"/>
                </a:solidFill>
                <a:uFillTx/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que le combattant reste à proximité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de conserver le passeport du combattant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La (ou les) anomalies sont à remontées au responsable de pesée seulement une fois que tout ce qui peut être contrôlé est fait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Exemple, problème de grade non validé sur le passeport il faut :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valider la présence du combattant (ordinateur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Le pesée et inscrire son poids dans le logici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Vérifier sa licence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Le but est d’avoir une décision rapide de la participation ou non du combattant par le responsable de manifestation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99"/>
                </a:solidFill>
                <a:latin typeface="Verdana"/>
              </a:rPr>
              <a:t>Puis de pouvoir revenir vers le combattant pour l’informé de cette décision et lui rendre son passeport sans avoir à recontrôle ou le faire monter sur la balance après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233280" y="2205000"/>
            <a:ext cx="86756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Le commissaire sportif est chargé de faire appliquer le règlement de la compéti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Tout écart constaté par le Commissaire Sportif doit être 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signalé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 au </a:t>
            </a:r>
            <a:r>
              <a:rPr b="1" lang="fr-FR" sz="1800" spc="-1" strike="noStrike" u="sng">
                <a:solidFill>
                  <a:srgbClr val="ff0000"/>
                </a:solidFill>
                <a:uFillTx/>
                <a:latin typeface="Verdana"/>
              </a:rPr>
              <a:t>responsable de pesée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Seul le responsable de la manifestation est habilité à prendre une décis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981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Règles de fonctionne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1916280"/>
            <a:ext cx="5508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Verdana"/>
              </a:rPr>
              <a:t>Tout compétiteur doit se présenter à la pesée avec son passe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Verdana"/>
              </a:rPr>
              <a:t>à jou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981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CONTRÔLE des PASSEPOR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4" descr="passeport enfant 1"/>
          <p:cNvPicPr/>
          <p:nvPr/>
        </p:nvPicPr>
        <p:blipFill>
          <a:blip r:embed="rId1"/>
          <a:stretch/>
        </p:blipFill>
        <p:spPr>
          <a:xfrm rot="555000">
            <a:off x="6300360" y="1699920"/>
            <a:ext cx="2247840" cy="410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passeport adulte 4"/>
          <p:cNvPicPr/>
          <p:nvPr/>
        </p:nvPicPr>
        <p:blipFill>
          <a:blip r:embed="rId2"/>
          <a:stretch/>
        </p:blipFill>
        <p:spPr>
          <a:xfrm>
            <a:off x="5508720" y="2419200"/>
            <a:ext cx="2276280" cy="30099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62000" y="429264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 Black"/>
              </a:rPr>
              <a:t>Le « passeport sportif » de la F.F.J.D.A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 Black"/>
              </a:rPr>
              <a:t>est obligatoire car il constitu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LA PREUVE OFFICIELLE DU GRADE DU LICENCIÉ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3" descr=""/>
          <p:cNvPicPr/>
          <p:nvPr/>
        </p:nvPicPr>
        <p:blipFill>
          <a:blip r:embed="rId1"/>
          <a:stretch/>
        </p:blipFill>
        <p:spPr>
          <a:xfrm>
            <a:off x="4632480" y="1974960"/>
            <a:ext cx="4054320" cy="1542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0" y="981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Contrôle administrati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3" descr="passeport identité 2"/>
          <p:cNvPicPr/>
          <p:nvPr/>
        </p:nvPicPr>
        <p:blipFill>
          <a:blip r:embed="rId2"/>
          <a:stretch/>
        </p:blipFill>
        <p:spPr>
          <a:xfrm>
            <a:off x="468360" y="1484280"/>
            <a:ext cx="3343320" cy="48578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"/>
          <p:cNvSpPr/>
          <p:nvPr/>
        </p:nvSpPr>
        <p:spPr>
          <a:xfrm>
            <a:off x="4716360" y="1557360"/>
            <a:ext cx="1233720" cy="27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554" y="18829"/>
                </a:moveTo>
                <a:lnTo>
                  <a:pt x="-1334" y="8688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Comic Sans MS"/>
              </a:rPr>
              <a:t>Le no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4811760" y="3208320"/>
            <a:ext cx="1977840" cy="27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290" y="13429"/>
                </a:moveTo>
                <a:lnTo>
                  <a:pt x="-582" y="8688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Comic Sans MS"/>
              </a:rPr>
              <a:t>Le Cachet du CD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4716360" y="4365720"/>
            <a:ext cx="2168640" cy="27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922" y="87079"/>
                </a:moveTo>
                <a:lnTo>
                  <a:pt x="-759" y="8688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Comic Sans MS"/>
              </a:rPr>
              <a:t>La signatu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4716360" y="5068800"/>
            <a:ext cx="3959280" cy="8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354" y="24185"/>
                </a:moveTo>
                <a:lnTo>
                  <a:pt x="-416" y="4418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Comic Sans MS"/>
              </a:rPr>
              <a:t>La date de délivrance du passepor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6699"/>
                </a:solidFill>
                <a:latin typeface="Comic Sans MS"/>
              </a:rPr>
              <a:t>Moins de 8 anné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4716360" y="1989000"/>
            <a:ext cx="1233720" cy="27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377" y="21996"/>
                </a:moveTo>
                <a:lnTo>
                  <a:pt x="-1334" y="8688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Comic Sans MS"/>
              </a:rPr>
              <a:t>La photo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4716360" y="3716280"/>
            <a:ext cx="2592360" cy="27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93" y="34266"/>
                </a:moveTo>
                <a:lnTo>
                  <a:pt x="-635" y="4418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Comic Sans MS"/>
              </a:rPr>
              <a:t>La date de naissanc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ZoneTexte 1"/>
          <p:cNvSpPr/>
          <p:nvPr/>
        </p:nvSpPr>
        <p:spPr>
          <a:xfrm>
            <a:off x="4667400" y="25588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4716360" y="565308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omic Sans MS"/>
              </a:rPr>
              <a:t>Un passeport est valable 8 ans </a:t>
            </a:r>
            <a:r>
              <a:rPr b="1" lang="fr-FR" sz="1400" spc="-1" strike="noStrike">
                <a:solidFill>
                  <a:srgbClr val="ff0000"/>
                </a:solidFill>
                <a:latin typeface="Comic Sans MS"/>
              </a:rPr>
              <a:t>(au mois près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ZoneTexte 1"/>
          <p:cNvSpPr/>
          <p:nvPr/>
        </p:nvSpPr>
        <p:spPr>
          <a:xfrm>
            <a:off x="5800680" y="2009880"/>
            <a:ext cx="2874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Cela peut paraitre évident mais il faut vérifier que la personne en face de vous correspond à la photo du passeport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Les catégories d’âg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Image 5" descr=""/>
          <p:cNvPicPr/>
          <p:nvPr/>
        </p:nvPicPr>
        <p:blipFill>
          <a:blip r:embed="rId1"/>
          <a:stretch/>
        </p:blipFill>
        <p:spPr>
          <a:xfrm>
            <a:off x="593640" y="2257560"/>
            <a:ext cx="5200560" cy="1171440"/>
          </a:xfrm>
          <a:prstGeom prst="rect">
            <a:avLst/>
          </a:prstGeom>
          <a:ln w="0">
            <a:noFill/>
          </a:ln>
        </p:spPr>
      </p:pic>
      <p:pic>
        <p:nvPicPr>
          <p:cNvPr id="66" name="Image 7" descr=""/>
          <p:cNvPicPr/>
          <p:nvPr/>
        </p:nvPicPr>
        <p:blipFill>
          <a:blip r:embed="rId2"/>
          <a:stretch/>
        </p:blipFill>
        <p:spPr>
          <a:xfrm>
            <a:off x="3419640" y="4273560"/>
            <a:ext cx="5202000" cy="1181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Rectangle 73"/>
          <p:cNvGrpSpPr/>
          <p:nvPr/>
        </p:nvGrpSpPr>
        <p:grpSpPr>
          <a:xfrm>
            <a:off x="304920" y="1968480"/>
            <a:ext cx="8461080" cy="2212920"/>
            <a:chOff x="304920" y="1968480"/>
            <a:chExt cx="8461080" cy="2212920"/>
          </a:xfrm>
        </p:grpSpPr>
        <p:pic>
          <p:nvPicPr>
            <p:cNvPr id="68" name="Rectangle 73" descr=""/>
            <p:cNvPicPr/>
            <p:nvPr/>
          </p:nvPicPr>
          <p:blipFill>
            <a:blip r:embed="rId1"/>
            <a:stretch/>
          </p:blipFill>
          <p:spPr>
            <a:xfrm>
              <a:off x="304920" y="1968480"/>
              <a:ext cx="846108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24000" y="1989000"/>
              <a:ext cx="8424720" cy="20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3300"/>
                  </a:solidFill>
                  <a:latin typeface="Arial"/>
                </a:rPr>
                <a:t>POUR LES MINEURS:</a:t>
              </a:r>
              <a:br>
                <a:rPr sz="1000"/>
              </a:b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Je soussigné(e) M…………………………..…. Père, mère, représentant(e) légal(e), autorise, pour la durée de validité du présent passeport,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l’enfant………………………………………………………………………………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à participer aux manifestations sportives fédérales pour la saison, et autorise le responsable de l’encadrement 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à faire pratique tout soin médical urgent (y compris une hospitalisation) ou  toute intervention qui s’avèrerait indispensable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onformément aux prescriptions du corps médical consulté.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 défaut, il ou elle sera pris(e) en charge par les services d’urgence.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à subir tout prélèvement nécessitant une technique invasive (prélèvement de sang, de cheveux, d’ongles,…) effectué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ns le cadre de la Lutte contre le dopage. Je prends note que l’absence d’autorisation est constitutive  d’un refus de se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oumettre aux mesures de contrôle. Le refus est sanctionné comme un résultat anormal (positif).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FAIT LE ……………………………….………………..…… SIGNATURE précédée de la mention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              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anuscrite «  lu et approuvé »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70" name="Rectangle 15"/>
          <p:cNvSpPr/>
          <p:nvPr/>
        </p:nvSpPr>
        <p:spPr>
          <a:xfrm>
            <a:off x="324000" y="4365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les commissaires sportifs: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le passeport du mineur n’a pas la signature autorisant la participation aux manifestations sportives fédérales ou si cette partie a été rayée, le judoka mineur ne  sera pas autorisé à participer aux compétitions sportives fédérale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Rappel sur le contrôle du passepor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2" descr=""/>
          <p:cNvPicPr/>
          <p:nvPr/>
        </p:nvPicPr>
        <p:blipFill>
          <a:blip r:embed="rId1"/>
          <a:stretch/>
        </p:blipFill>
        <p:spPr>
          <a:xfrm>
            <a:off x="2462040" y="2133720"/>
            <a:ext cx="4219920" cy="2276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2062080" y="1052640"/>
            <a:ext cx="50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99"/>
                </a:solidFill>
                <a:latin typeface="Arial Black"/>
              </a:rPr>
              <a:t>Le timbre de licen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981000"/>
            <a:ext cx="9144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Contrôle Licenc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79280" y="228924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2 années</a:t>
            </a: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 de licences dont celle de l’année en cour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826920" y="3573360"/>
            <a:ext cx="367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Le n° de licence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M14051989VIALE0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179280" y="4917960"/>
            <a:ext cx="935280" cy="230040"/>
          </a:xfrm>
          <a:prstGeom prst="wedgeRoundRectCallout">
            <a:avLst>
              <a:gd name="adj1" fmla="val 89550"/>
              <a:gd name="adj2" fmla="val -31265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99"/>
                </a:solidFill>
                <a:latin typeface="Comic Sans MS"/>
              </a:rPr>
              <a:t>sexe (1c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611280" y="5508720"/>
            <a:ext cx="1330200" cy="690840"/>
          </a:xfrm>
          <a:prstGeom prst="wedgeRoundRectCallout">
            <a:avLst>
              <a:gd name="adj1" fmla="val 85416"/>
              <a:gd name="adj2" fmla="val -22306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99"/>
                </a:solidFill>
                <a:latin typeface="Comic Sans MS"/>
              </a:rPr>
              <a:t>Date de naissance (8c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2052720" y="5157720"/>
            <a:ext cx="1330200" cy="230040"/>
          </a:xfrm>
          <a:prstGeom prst="wedgeRoundRectCallout">
            <a:avLst>
              <a:gd name="adj1" fmla="val 39254"/>
              <a:gd name="adj2" fmla="val -40593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99"/>
                </a:solidFill>
                <a:latin typeface="Comic Sans MS"/>
              </a:rPr>
              <a:t>Nom (5c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3348000" y="5659560"/>
            <a:ext cx="2016000" cy="230040"/>
          </a:xfrm>
          <a:prstGeom prst="wedgeRoundRectCallout">
            <a:avLst>
              <a:gd name="adj1" fmla="val -31967"/>
              <a:gd name="adj2" fmla="val -61781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99"/>
                </a:solidFill>
                <a:latin typeface="Comic Sans MS"/>
              </a:rPr>
              <a:t>N°  de séquence (2c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13" descr="passeport licence 2"/>
          <p:cNvPicPr/>
          <p:nvPr/>
        </p:nvPicPr>
        <p:blipFill>
          <a:blip r:embed="rId1"/>
          <a:stretch/>
        </p:blipFill>
        <p:spPr>
          <a:xfrm>
            <a:off x="5508720" y="1628640"/>
            <a:ext cx="3338280" cy="42436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7214040" y="610236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99"/>
                </a:solidFill>
                <a:latin typeface="Comic Sans MS"/>
              </a:rPr>
              <a:t>c = caractère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981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Contrôle du gra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68360" y="17002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Un grade minimum est requis pour participer à une compéti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99"/>
                </a:solidFill>
                <a:latin typeface="Arial Black"/>
              </a:rPr>
              <a:t>Seul le grade figurant sur le passeport fait foi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2997360"/>
          <a:ext cx="2906640" cy="2330280"/>
        </p:xfrm>
        <a:graphic>
          <a:graphicData uri="http://schemas.openxmlformats.org/drawingml/2006/table">
            <a:tbl>
              <a:tblPr/>
              <a:tblGrid>
                <a:gridCol w="1231920"/>
                <a:gridCol w="1674720"/>
              </a:tblGrid>
              <a:tr h="648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GRADE 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hampion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ENJAM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AUNE/ O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IN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AD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JUNI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ENI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28" descr="passeport grades 1"/>
          <p:cNvPicPr/>
          <p:nvPr/>
        </p:nvPicPr>
        <p:blipFill>
          <a:blip r:embed="rId1"/>
          <a:stretch/>
        </p:blipFill>
        <p:spPr>
          <a:xfrm>
            <a:off x="3419640" y="2637000"/>
            <a:ext cx="5467320" cy="3638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VIALETTE Remi UPR O/APR</cp:lastModifiedBy>
  <dcterms:modified xsi:type="dcterms:W3CDTF">2023-02-25T20:40:51Z</dcterms:modified>
  <cp:revision>138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bd775b76-b533-4e5f-9b50-8869b06083b7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38:42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