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"/>
          <p:cNvGrpSpPr/>
          <p:nvPr/>
        </p:nvGrpSpPr>
        <p:grpSpPr>
          <a:xfrm>
            <a:off x="0" y="0"/>
            <a:ext cx="9143640" cy="990720"/>
            <a:chOff x="0" y="0"/>
            <a:chExt cx="9143640" cy="990720"/>
          </a:xfrm>
        </p:grpSpPr>
        <p:pic>
          <p:nvPicPr>
            <p:cNvPr id="1" name="Rectangle 1" descr=""/>
            <p:cNvPicPr/>
            <p:nvPr/>
          </p:nvPicPr>
          <p:blipFill>
            <a:blip r:embed="rId2"/>
            <a:stretch/>
          </p:blipFill>
          <p:spPr>
            <a:xfrm>
              <a:off x="1080" y="0"/>
              <a:ext cx="914256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256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" name="Rectangle 11"/>
          <p:cNvSpPr/>
          <p:nvPr/>
        </p:nvSpPr>
        <p:spPr>
          <a:xfrm>
            <a:off x="2685960" y="6551640"/>
            <a:ext cx="3895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04000" y="6541920"/>
            <a:ext cx="1905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5FBA-F08B-42BC-8DE3-7776F24F887D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2824200" y="438120"/>
            <a:ext cx="361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aison 2023 – 202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" name="Graphique 5" descr=""/>
          <p:cNvPicPr/>
          <p:nvPr/>
        </p:nvPicPr>
        <p:blipFill>
          <a:blip r:embed="rId3"/>
          <a:stretch/>
        </p:blipFill>
        <p:spPr>
          <a:xfrm>
            <a:off x="317520" y="279360"/>
            <a:ext cx="81288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Image 21" descr=""/>
          <p:cNvPicPr/>
          <p:nvPr/>
        </p:nvPicPr>
        <p:blipFill>
          <a:blip r:embed="rId4"/>
          <a:stretch/>
        </p:blipFill>
        <p:spPr>
          <a:xfrm>
            <a:off x="8140680" y="155520"/>
            <a:ext cx="852480" cy="604800"/>
          </a:xfrm>
          <a:prstGeom prst="rect">
            <a:avLst/>
          </a:prstGeom>
          <a:ln w="0">
            <a:noFill/>
          </a:ln>
        </p:spPr>
      </p:pic>
      <p:grpSp>
        <p:nvGrpSpPr>
          <p:cNvPr id="8" name="Rectangle 19"/>
          <p:cNvGrpSpPr/>
          <p:nvPr/>
        </p:nvGrpSpPr>
        <p:grpSpPr>
          <a:xfrm>
            <a:off x="0" y="6756480"/>
            <a:ext cx="9144000" cy="101520"/>
            <a:chOff x="0" y="6756480"/>
            <a:chExt cx="9144000" cy="101520"/>
          </a:xfrm>
        </p:grpSpPr>
        <p:pic>
          <p:nvPicPr>
            <p:cNvPr id="9" name="Rectangle 19" descr=""/>
            <p:cNvPicPr/>
            <p:nvPr/>
          </p:nvPicPr>
          <p:blipFill>
            <a:blip r:embed="rId5"/>
            <a:stretch/>
          </p:blipFill>
          <p:spPr>
            <a:xfrm>
              <a:off x="0" y="6756480"/>
              <a:ext cx="9144000" cy="1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6769080"/>
              <a:ext cx="91440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ZoneTexte 20"/>
          <p:cNvSpPr/>
          <p:nvPr/>
        </p:nvSpPr>
        <p:spPr>
          <a:xfrm>
            <a:off x="2678040" y="32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a Pesée : Contrôle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De l’inscription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1" descr=""/>
          <p:cNvPicPr/>
          <p:nvPr/>
        </p:nvPicPr>
        <p:blipFill>
          <a:blip r:embed="rId1"/>
          <a:stretch/>
        </p:blipFill>
        <p:spPr>
          <a:xfrm>
            <a:off x="507960" y="1523880"/>
            <a:ext cx="8178840" cy="41529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0" y="98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Présentation du combatta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98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Le contrôle du po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50920" y="162864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Une fois le combattant sur la balance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éterminer la catégorie du poids du combatta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e pas hésiter à mentionner le poids relever à votre collègue mais également au combatta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50920" y="3156120"/>
            <a:ext cx="86421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aisie du poids Exact sur l’ordinateur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 seule chiffre après la virgule. Quelques exemples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Féminine affichage à 56,38kg sur la balanc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pplication d’une tolérance (mineur ou majeur ?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Catégorie -57kg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aisi du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poids exact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sur l’ordinateur comme ceci :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56,3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50920" y="5187960"/>
            <a:ext cx="8642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utres exemples :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Masculin mineur pesée 46,15 sur la balanc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Quelle catégorie ? Que note on 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68360" y="1844640"/>
            <a:ext cx="820728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  <a:ea typeface="Verdana"/>
              </a:rPr>
              <a:t>Dans la salle de pesée 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90792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90792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Verdana"/>
              </a:rPr>
              <a:t>Interdiction de sortir un appareil ayant un appareil photo ou caméra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Verdana"/>
              </a:rPr>
              <a:t>(appareil photo, caméra,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Verdana"/>
              </a:rPr>
              <a:t>smartphone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Verdana"/>
              </a:rPr>
              <a:t>, tablette, …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90792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907920" indent="-2854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Verdana"/>
              </a:rPr>
              <a:t>C’est valable pour toutes les personnes présentes lors de la pesée  (Combattant, commissaire sportif, …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907920" indent="-2854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907920" indent="-2854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Verdana"/>
              </a:rPr>
              <a:t>Les combattants se présentant avec des données à contrôler (tel que la licence) sur leur smartphone doit se faire avec le responsable de pesées à l’écart des autre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98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Règle générique à la pesé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En cas d’anomalie 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33280" y="1700280"/>
            <a:ext cx="8675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Toute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anomalie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constatée doit être rapporté au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responsable de pesée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6699"/>
                </a:solidFill>
                <a:uFillTx/>
                <a:latin typeface="Verdana"/>
              </a:rPr>
              <a:t>Le commissaire sportif doit impérativement s’assurer </a:t>
            </a:r>
            <a:r>
              <a:rPr b="0" lang="en-US" sz="1600" spc="-1" strike="noStrike" u="sng">
                <a:solidFill>
                  <a:srgbClr val="006699"/>
                </a:solidFill>
                <a:uFillTx/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que le combattant reste à proximité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de conserver le passeport du combattan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La (ou les) anomalies sont à remontées au responsable de pesée seulement une fois que tout ce qui peut être contrôlé est fait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Exemple, problème de grade non validé sur le passeport il faut 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valider la présence du combattant (ordinateur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La pesée et inscrire son poids dans le logici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Vérifier sa licenc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Le but est d’avoir une décision rapide de la participation ou non du combattant par le responsable de manifestation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uis de pouvoir revenir vers le combattant pour l’informé de cette décision et lui rendre son passeport sans avoir à recontrôle ou le faire monter sur la balance après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233280" y="2205000"/>
            <a:ext cx="86756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Le commissaire sportif est chargé de faire appliquer le règlement de la compéti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Tout écart constaté par le Commissaire Sportif doit être 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signalé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 au </a:t>
            </a:r>
            <a:r>
              <a:rPr b="1" lang="fr-FR" sz="1800" spc="-1" strike="noStrike" u="sng">
                <a:solidFill>
                  <a:srgbClr val="ff0000"/>
                </a:solidFill>
                <a:uFillTx/>
                <a:latin typeface="Verdana"/>
              </a:rPr>
              <a:t>responsable de pesée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Seul le responsable de la manifestation est habilité à prendre une décis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Règles de fonctionne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916280"/>
            <a:ext cx="5508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Verdana"/>
              </a:rPr>
              <a:t>Tout compétiteur doit se présenter à la pesée avec son passe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Verdana"/>
              </a:rPr>
              <a:t>à jou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CONTRÔLE des PASSEPOR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4" descr="passeport enfant 1"/>
          <p:cNvPicPr/>
          <p:nvPr/>
        </p:nvPicPr>
        <p:blipFill>
          <a:blip r:embed="rId1"/>
          <a:stretch/>
        </p:blipFill>
        <p:spPr>
          <a:xfrm rot="555000">
            <a:off x="6300360" y="1699920"/>
            <a:ext cx="2247840" cy="410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passeport adulte 4"/>
          <p:cNvPicPr/>
          <p:nvPr/>
        </p:nvPicPr>
        <p:blipFill>
          <a:blip r:embed="rId2"/>
          <a:stretch/>
        </p:blipFill>
        <p:spPr>
          <a:xfrm>
            <a:off x="5508720" y="2419200"/>
            <a:ext cx="2276280" cy="300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62000" y="429264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 Black"/>
              </a:rPr>
              <a:t>Le « passeport sportif » de la F.F.J.D.A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 Black"/>
              </a:rPr>
              <a:t>est obligatoire car il constitu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LA PREUVE OFFICIELLE DU GRADE DU LICENCIÉ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4699080" y="3022560"/>
            <a:ext cx="4064040" cy="1231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Contrôle administrati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Picture 3" descr="passeport identité 2"/>
          <p:cNvPicPr/>
          <p:nvPr/>
        </p:nvPicPr>
        <p:blipFill>
          <a:blip r:embed="rId2"/>
          <a:stretch/>
        </p:blipFill>
        <p:spPr>
          <a:xfrm>
            <a:off x="468360" y="1484280"/>
            <a:ext cx="3343320" cy="48578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4"/>
          <p:cNvSpPr/>
          <p:nvPr/>
        </p:nvSpPr>
        <p:spPr>
          <a:xfrm>
            <a:off x="4716360" y="1557360"/>
            <a:ext cx="1233720" cy="27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554" y="18829"/>
                </a:moveTo>
                <a:lnTo>
                  <a:pt x="-1334" y="8688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Comic Sans MS"/>
              </a:rPr>
              <a:t>Le no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4788000" y="3041640"/>
            <a:ext cx="1233360" cy="27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377" y="21939"/>
                </a:moveTo>
                <a:lnTo>
                  <a:pt x="-1334" y="8688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Comic Sans MS"/>
              </a:rPr>
              <a:t>La photo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5307120" y="5157720"/>
            <a:ext cx="2592360" cy="27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266" y="-76674"/>
                </a:moveTo>
                <a:lnTo>
                  <a:pt x="-635" y="4418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Comic Sans MS"/>
              </a:rPr>
              <a:t>La date de naissanc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ZoneTexte 1"/>
          <p:cNvSpPr/>
          <p:nvPr/>
        </p:nvSpPr>
        <p:spPr>
          <a:xfrm>
            <a:off x="5872320" y="3062160"/>
            <a:ext cx="2874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Cela peut paraitre évident mais il faut vérifier que la personne en face de vous correspond à la photo du passeport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716360" y="1835280"/>
            <a:ext cx="1233720" cy="27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462" y="171302"/>
                </a:moveTo>
                <a:lnTo>
                  <a:pt x="-1334" y="8688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Comic Sans MS"/>
              </a:rPr>
              <a:t>Le préno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981000"/>
            <a:ext cx="9144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Contrôle Licenc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79280" y="228924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2 années</a:t>
            </a: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 de licences dont celle de l’année en cour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26920" y="3573360"/>
            <a:ext cx="36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e n° de licence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M14051989VIALE0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79280" y="4917960"/>
            <a:ext cx="935280" cy="230040"/>
          </a:xfrm>
          <a:prstGeom prst="wedgeRoundRectCallout">
            <a:avLst>
              <a:gd name="adj1" fmla="val 89550"/>
              <a:gd name="adj2" fmla="val -3126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Comic Sans MS"/>
              </a:rPr>
              <a:t>sexe (1c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611280" y="5508720"/>
            <a:ext cx="1330200" cy="690840"/>
          </a:xfrm>
          <a:prstGeom prst="wedgeRoundRectCallout">
            <a:avLst>
              <a:gd name="adj1" fmla="val 85416"/>
              <a:gd name="adj2" fmla="val -2230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Comic Sans MS"/>
              </a:rPr>
              <a:t>Date de naissance (8c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2052720" y="5157720"/>
            <a:ext cx="1330200" cy="230040"/>
          </a:xfrm>
          <a:prstGeom prst="wedgeRoundRectCallout">
            <a:avLst>
              <a:gd name="adj1" fmla="val 39254"/>
              <a:gd name="adj2" fmla="val -405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Comic Sans MS"/>
              </a:rPr>
              <a:t>Nom (5c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3348000" y="5659560"/>
            <a:ext cx="2016000" cy="230040"/>
          </a:xfrm>
          <a:prstGeom prst="wedgeRoundRectCallout">
            <a:avLst>
              <a:gd name="adj1" fmla="val -31967"/>
              <a:gd name="adj2" fmla="val -61781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Comic Sans MS"/>
              </a:rPr>
              <a:t>N°  de séquence (2c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13" descr="passeport licence 2"/>
          <p:cNvPicPr/>
          <p:nvPr/>
        </p:nvPicPr>
        <p:blipFill>
          <a:blip r:embed="rId1"/>
          <a:stretch/>
        </p:blipFill>
        <p:spPr>
          <a:xfrm>
            <a:off x="5508720" y="1628640"/>
            <a:ext cx="3338280" cy="4243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7214040" y="610236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Comic Sans MS"/>
              </a:rPr>
              <a:t>c = caractère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2" descr=""/>
          <p:cNvPicPr/>
          <p:nvPr/>
        </p:nvPicPr>
        <p:blipFill>
          <a:blip r:embed="rId1"/>
          <a:stretch/>
        </p:blipFill>
        <p:spPr>
          <a:xfrm>
            <a:off x="2462040" y="2133720"/>
            <a:ext cx="4219920" cy="2276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2062080" y="1052640"/>
            <a:ext cx="50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99"/>
                </a:solidFill>
                <a:latin typeface="Arial Black"/>
              </a:rPr>
              <a:t>Le timbre de lice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Contrôle du gra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68360" y="17002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Un grade minimum est requis pour participer à une compéti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Arial Black"/>
              </a:rPr>
              <a:t>Seul le grade figurant sur le passeport fait foi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95280" y="2997360"/>
          <a:ext cx="2906640" cy="2330280"/>
        </p:xfrm>
        <a:graphic>
          <a:graphicData uri="http://schemas.openxmlformats.org/drawingml/2006/table">
            <a:tbl>
              <a:tblPr/>
              <a:tblGrid>
                <a:gridCol w="1231920"/>
                <a:gridCol w="1674720"/>
              </a:tblGrid>
              <a:tr h="64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GRADE 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hampion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ENJA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UNE/ O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IN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AD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JUNI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NI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28" descr="passeport grades 1"/>
          <p:cNvPicPr/>
          <p:nvPr/>
        </p:nvPicPr>
        <p:blipFill>
          <a:blip r:embed="rId1"/>
          <a:stretch/>
        </p:blipFill>
        <p:spPr>
          <a:xfrm>
            <a:off x="3419640" y="2637000"/>
            <a:ext cx="546732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Les catégories d’âg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Image 3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5202360" cy="1174680"/>
          </a:xfrm>
          <a:prstGeom prst="rect">
            <a:avLst/>
          </a:prstGeom>
          <a:ln w="0">
            <a:noFill/>
          </a:ln>
        </p:spPr>
      </p:pic>
      <p:pic>
        <p:nvPicPr>
          <p:cNvPr id="81" name="Image 5" descr=""/>
          <p:cNvPicPr/>
          <p:nvPr/>
        </p:nvPicPr>
        <p:blipFill>
          <a:blip r:embed="rId2"/>
          <a:stretch/>
        </p:blipFill>
        <p:spPr>
          <a:xfrm>
            <a:off x="3257640" y="3478320"/>
            <a:ext cx="5202000" cy="1174680"/>
          </a:xfrm>
          <a:prstGeom prst="rect">
            <a:avLst/>
          </a:prstGeom>
          <a:ln w="0">
            <a:noFill/>
          </a:ln>
        </p:spPr>
      </p:pic>
      <p:pic>
        <p:nvPicPr>
          <p:cNvPr id="82" name="Image 7" descr=""/>
          <p:cNvPicPr/>
          <p:nvPr/>
        </p:nvPicPr>
        <p:blipFill>
          <a:blip r:embed="rId3"/>
          <a:stretch/>
        </p:blipFill>
        <p:spPr>
          <a:xfrm>
            <a:off x="0" y="5116680"/>
            <a:ext cx="9144000" cy="1069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98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Le contrôle du po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5680" y="5589720"/>
            <a:ext cx="88790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ors du contrôle, si toutes les balances n’indiquent pas toutes le même poids 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9999"/>
                </a:solidFill>
                <a:latin typeface="Verdana"/>
              </a:rPr>
              <a:t>Le poids désigné par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la balance la plus favorable </a:t>
            </a:r>
            <a:r>
              <a:rPr b="0" lang="en-US" sz="1600" spc="-1" strike="noStrike">
                <a:solidFill>
                  <a:srgbClr val="009999"/>
                </a:solidFill>
                <a:latin typeface="Verdana"/>
              </a:rPr>
              <a:t>aux combattants est retenu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85680" y="1474920"/>
            <a:ext cx="89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Les combattants doivent être au poids à la fin du temps imparti à la pesé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Image 5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Aurélie Gicquel</cp:lastModifiedBy>
  <dcterms:modified xsi:type="dcterms:W3CDTF">2023-10-14T13:23:33Z</dcterms:modified>
  <cp:revision>153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bd775b76-b533-4e5f-9b50-8869b06083b7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38:42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