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A774-BF5D-40B5-A8D5-00817B95A43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40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40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ZoneTexte 41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Arial Black"/>
              </a:rPr>
              <a:t>Présentation de la commi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Présentation de la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148428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ant de la CDA au Comité Directe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hel BERTHI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itre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eur des arbitr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udovic BARTH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itre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rice des Commissaires Spor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éline RONTAR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tabLst>
                <a:tab algn="l" pos="0"/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issaires Sportifs membre de la commission d’arbitr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VIALETT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rélie GICQUE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Interl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thalie ROUINSAR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 Judo/Jujit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entin CHAPEL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Interl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entin MICH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orian LU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1920" y="2720880"/>
            <a:ext cx="8459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Samedi 14 Octobre 2023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 14h à 17h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imanche 12 Novembre 2023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 09h à 12h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26920" y="1197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Planning des stages de r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773360"/>
            <a:ext cx="820728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anche 15 Octobre 202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09h00 à 12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GAGEMENTS, NOTATIONS, PES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medi 11 Novembre 202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4h00 à 17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TABLEAUX et REPECHAG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anche 10 Décembre 202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9h00 à 12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OULES, Relation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anche 24 Mars 202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5h30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499"/>
              </a:spcAft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amen Ecrit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ote minimale: 14/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6920" y="112536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lanning des stages Judo Ecole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4360" y="1844640"/>
            <a:ext cx="7775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rée de la formation: 3 années consécutiv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olérance évidente suite à la situation san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ligation de suivre le stage de rentrée dés la 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er l’éc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 stages é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ote minimale de 12/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agements, Notations, Pe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aux et repêch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les et relation grade/Champion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note minimale de 14/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er la pr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4 pratiqu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valid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26920" y="1197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La Formation des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826920" y="11714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Coupe des Jeunes Commissaires Spor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76120" y="2155680"/>
            <a:ext cx="85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ADETS/Cadettes…………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Dimanche 14 Janvier 2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ur le championnat min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76120" y="3716280"/>
            <a:ext cx="85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inimes      …………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medi 20 Avril 2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ur le championnat Benja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76120" y="1413000"/>
            <a:ext cx="86886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exerce un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onction fédéral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fficielle et doit être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licenc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doit se présenter au moins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30 mn ava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début de la 1° pesée, auprès du responsable des C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561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doit se présenter avec une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tenue correcte</a:t>
            </a:r>
            <a:br>
              <a:rPr sz="2000"/>
            </a:br>
            <a:r>
              <a:rPr b="1" lang="fr-FR" sz="1800" spc="-1" strike="noStrike" u="sng">
                <a:solidFill>
                  <a:srgbClr val="0d0d0d"/>
                </a:solidFill>
                <a:uFillTx/>
                <a:latin typeface="Comic Sans MS"/>
              </a:rPr>
              <a:t>Pantalon noir, chemise blanche ou haut de couleur bleu ou rouge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Comic Sans MS"/>
              </a:rPr>
              <a:t>EXI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doit venir équipé : stylo (bleu ou noir), souris correctrice, surligneu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Pas de téléphon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table des commissaires spor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installe et vérif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matériel  en début de 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matériel de son tap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 n’est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pas autoris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quitter la compétition sans en avoir informé au préalable le responsable des 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Les devoirs du Commissaire Spor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292720" y="2276640"/>
            <a:ext cx="2859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25000"/>
              </a:lnSpc>
              <a:spcAft>
                <a:spcPts val="624"/>
              </a:spcAft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Comic Sans MS"/>
              </a:rPr>
              <a:t>avec son passeport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L’évolution du commissaire spor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76120" y="1700280"/>
            <a:ext cx="8569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département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a thé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a pr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87280" y="2955960"/>
            <a:ext cx="856944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région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olonté du CS départe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tagiaire avec évaluation sur 1 ou 2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alidation en fin de s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72880" y="4581360"/>
            <a:ext cx="856944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nation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olonté du CS ré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alidation par le responsable départemental et ré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1 examen sur une compétition inter-ligue ou 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Rémi Vialette</cp:lastModifiedBy>
  <dcterms:modified xsi:type="dcterms:W3CDTF">2023-10-14T00:40:40Z</dcterms:modified>
  <cp:revision>17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82352208-8f02-41e4-8093-4fdef7301305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8:07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