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2"/>
          <p:cNvGrpSpPr/>
          <p:nvPr/>
        </p:nvGrpSpPr>
        <p:grpSpPr>
          <a:xfrm>
            <a:off x="-6480" y="-23760"/>
            <a:ext cx="9144000" cy="981000"/>
            <a:chOff x="-6480" y="-23760"/>
            <a:chExt cx="9144000" cy="981000"/>
          </a:xfrm>
        </p:grpSpPr>
        <p:pic>
          <p:nvPicPr>
            <p:cNvPr id="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2052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-23760"/>
              <a:ext cx="9144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" name="Rectangle 11"/>
          <p:cNvSpPr/>
          <p:nvPr/>
        </p:nvSpPr>
        <p:spPr>
          <a:xfrm>
            <a:off x="2685960" y="6551640"/>
            <a:ext cx="3895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04000" y="6541920"/>
            <a:ext cx="1905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3615-03A5-477F-851F-7C834943C5A1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2824200" y="438120"/>
            <a:ext cx="361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aison 2023 – 202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" name="Graphique 5" descr=""/>
          <p:cNvPicPr/>
          <p:nvPr/>
        </p:nvPicPr>
        <p:blipFill>
          <a:blip r:embed="rId3"/>
          <a:stretch/>
        </p:blipFill>
        <p:spPr>
          <a:xfrm>
            <a:off x="324000" y="285840"/>
            <a:ext cx="803160" cy="409320"/>
          </a:xfrm>
          <a:prstGeom prst="rect">
            <a:avLst/>
          </a:prstGeom>
          <a:ln w="0">
            <a:noFill/>
          </a:ln>
        </p:spPr>
      </p:pic>
      <p:pic>
        <p:nvPicPr>
          <p:cNvPr id="7" name="Image 21" descr=""/>
          <p:cNvPicPr/>
          <p:nvPr/>
        </p:nvPicPr>
        <p:blipFill>
          <a:blip r:embed="rId4"/>
          <a:stretch/>
        </p:blipFill>
        <p:spPr>
          <a:xfrm>
            <a:off x="8140680" y="155520"/>
            <a:ext cx="852480" cy="604800"/>
          </a:xfrm>
          <a:prstGeom prst="rect">
            <a:avLst/>
          </a:prstGeom>
          <a:ln w="0">
            <a:noFill/>
          </a:ln>
        </p:spPr>
      </p:pic>
      <p:grpSp>
        <p:nvGrpSpPr>
          <p:cNvPr id="8" name="Rectangle 20"/>
          <p:cNvGrpSpPr/>
          <p:nvPr/>
        </p:nvGrpSpPr>
        <p:grpSpPr>
          <a:xfrm>
            <a:off x="0" y="6765840"/>
            <a:ext cx="9144000" cy="92160"/>
            <a:chOff x="0" y="6765840"/>
            <a:chExt cx="9144000" cy="92160"/>
          </a:xfrm>
        </p:grpSpPr>
        <p:pic>
          <p:nvPicPr>
            <p:cNvPr id="9" name="Rectangle 20" descr=""/>
            <p:cNvPicPr/>
            <p:nvPr/>
          </p:nvPicPr>
          <p:blipFill>
            <a:blip r:embed="rId5"/>
            <a:stretch/>
          </p:blipFill>
          <p:spPr>
            <a:xfrm>
              <a:off x="0" y="6765840"/>
              <a:ext cx="914400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6769080"/>
              <a:ext cx="91440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ZoneTexte 21"/>
          <p:cNvSpPr/>
          <p:nvPr/>
        </p:nvSpPr>
        <p:spPr>
          <a:xfrm>
            <a:off x="2678040" y="32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95280" y="1989000"/>
            <a:ext cx="84582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a disposition de la salle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108000" y="977760"/>
            <a:ext cx="892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99"/>
                </a:solidFill>
                <a:latin typeface="Verdana"/>
              </a:rPr>
              <a:t>Organisation de la sal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1787400" y="5587920"/>
            <a:ext cx="1297080" cy="936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Bureau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419640" y="2563920"/>
            <a:ext cx="379080" cy="2982960"/>
          </a:xfrm>
          <a:prstGeom prst="rect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38040" y="5291280"/>
            <a:ext cx="8502840" cy="253800"/>
          </a:xfrm>
          <a:prstGeom prst="rect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906560" y="2563920"/>
            <a:ext cx="1441440" cy="2727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Tribun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798720" y="1628640"/>
            <a:ext cx="4973760" cy="79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Tribun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228840" y="5587920"/>
            <a:ext cx="1295640" cy="936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Salle Muscu / Secourist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871800" y="4054320"/>
            <a:ext cx="1440000" cy="1101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pis 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871800" y="2708280"/>
            <a:ext cx="1440000" cy="1100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pis 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5600880" y="2708280"/>
            <a:ext cx="1439640" cy="1100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pis 3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327800" y="2714760"/>
            <a:ext cx="1441440" cy="1101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pis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7327800" y="4054320"/>
            <a:ext cx="1441440" cy="1101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pis 5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5600880" y="4054320"/>
            <a:ext cx="1439640" cy="1101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able central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107040" y="3909960"/>
            <a:ext cx="426960" cy="144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Rectangle 16"/>
          <p:cNvSpPr/>
          <p:nvPr/>
        </p:nvSpPr>
        <p:spPr>
          <a:xfrm rot="5400000">
            <a:off x="6914160" y="4532760"/>
            <a:ext cx="428760" cy="14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Rectangle 17"/>
          <p:cNvSpPr/>
          <p:nvPr/>
        </p:nvSpPr>
        <p:spPr>
          <a:xfrm rot="5400000">
            <a:off x="5319360" y="4505040"/>
            <a:ext cx="427320" cy="14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Rectangle 18"/>
          <p:cNvSpPr/>
          <p:nvPr/>
        </p:nvSpPr>
        <p:spPr>
          <a:xfrm rot="18469800">
            <a:off x="5385960" y="3985920"/>
            <a:ext cx="427320" cy="144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Rectangle 19"/>
          <p:cNvSpPr/>
          <p:nvPr/>
        </p:nvSpPr>
        <p:spPr>
          <a:xfrm rot="3291600">
            <a:off x="6867000" y="3983040"/>
            <a:ext cx="426960" cy="144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ZoneTexte 3"/>
          <p:cNvSpPr/>
          <p:nvPr/>
        </p:nvSpPr>
        <p:spPr>
          <a:xfrm>
            <a:off x="1908000" y="3211560"/>
            <a:ext cx="144180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ous êtes ici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ous êtes ici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1547640" y="2470320"/>
            <a:ext cx="289080" cy="3076560"/>
          </a:xfrm>
          <a:prstGeom prst="rect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8850240" y="2563920"/>
            <a:ext cx="239760" cy="2981160"/>
          </a:xfrm>
          <a:prstGeom prst="rect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388800" y="4611600"/>
            <a:ext cx="1114560" cy="617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stiaire 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49320" y="1677960"/>
            <a:ext cx="3714480" cy="792360"/>
          </a:xfrm>
          <a:prstGeom prst="rect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3417840" y="2457360"/>
            <a:ext cx="5672160" cy="201600"/>
          </a:xfrm>
          <a:prstGeom prst="rect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388800" y="3933720"/>
            <a:ext cx="1114560" cy="61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stia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379440" y="3243240"/>
            <a:ext cx="1114560" cy="617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stia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379440" y="2565360"/>
            <a:ext cx="1114560" cy="615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stia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49320" y="2470320"/>
            <a:ext cx="288720" cy="3074760"/>
          </a:xfrm>
          <a:prstGeom prst="rect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77" name="Connecteur droit avec flèche 20"/>
          <p:cNvCxnSpPr>
            <a:stCxn id="74" idx="3"/>
          </p:cNvCxnSpPr>
          <p:nvPr/>
        </p:nvCxnSpPr>
        <p:spPr>
          <a:xfrm flipV="1">
            <a:off x="1494000" y="3542760"/>
            <a:ext cx="38160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78" name="Connecteur droit avec flèche 27"/>
          <p:cNvCxnSpPr/>
          <p:nvPr/>
        </p:nvCxnSpPr>
        <p:spPr>
          <a:xfrm flipV="1">
            <a:off x="1515600" y="4271400"/>
            <a:ext cx="3819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79" name="Connecteur droit avec flèche 28"/>
          <p:cNvCxnSpPr/>
          <p:nvPr/>
        </p:nvCxnSpPr>
        <p:spPr>
          <a:xfrm flipV="1">
            <a:off x="1503360" y="4828320"/>
            <a:ext cx="38160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80" name="Flèche : angle droit 40"/>
          <p:cNvSpPr/>
          <p:nvPr/>
        </p:nvSpPr>
        <p:spPr>
          <a:xfrm rot="11425800">
            <a:off x="248400" y="2055600"/>
            <a:ext cx="3297240" cy="465120"/>
          </a:xfrm>
          <a:custGeom>
            <a:avLst/>
            <a:gdLst/>
            <a:ahLst/>
            <a:rect l="l" t="t" r="r" b="b"/>
            <a:pathLst>
              <a:path w="3296874" h="464416">
                <a:moveTo>
                  <a:pt x="0" y="339075"/>
                </a:moveTo>
                <a:lnTo>
                  <a:pt x="3118099" y="339075"/>
                </a:lnTo>
                <a:lnTo>
                  <a:pt x="3118099" y="116104"/>
                </a:lnTo>
                <a:lnTo>
                  <a:pt x="3064666" y="116104"/>
                </a:lnTo>
                <a:lnTo>
                  <a:pt x="3180770" y="0"/>
                </a:lnTo>
                <a:lnTo>
                  <a:pt x="3296874" y="116104"/>
                </a:lnTo>
                <a:lnTo>
                  <a:pt x="3243441" y="116104"/>
                </a:lnTo>
                <a:lnTo>
                  <a:pt x="3243441" y="464416"/>
                </a:lnTo>
                <a:lnTo>
                  <a:pt x="0" y="464416"/>
                </a:lnTo>
                <a:lnTo>
                  <a:pt x="0" y="33907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Flèche : angle droit 41"/>
          <p:cNvSpPr/>
          <p:nvPr/>
        </p:nvSpPr>
        <p:spPr>
          <a:xfrm rot="312000">
            <a:off x="1697040" y="5129280"/>
            <a:ext cx="1960560" cy="465120"/>
          </a:xfrm>
          <a:custGeom>
            <a:avLst/>
            <a:gdLst/>
            <a:ahLst/>
            <a:rect l="l" t="t" r="r" b="b"/>
            <a:pathLst>
              <a:path w="1960811" h="464416">
                <a:moveTo>
                  <a:pt x="0" y="339075"/>
                </a:moveTo>
                <a:lnTo>
                  <a:pt x="1782036" y="339075"/>
                </a:lnTo>
                <a:lnTo>
                  <a:pt x="1782036" y="116104"/>
                </a:lnTo>
                <a:lnTo>
                  <a:pt x="1728603" y="116104"/>
                </a:lnTo>
                <a:lnTo>
                  <a:pt x="1844707" y="0"/>
                </a:lnTo>
                <a:lnTo>
                  <a:pt x="1960811" y="116104"/>
                </a:lnTo>
                <a:lnTo>
                  <a:pt x="1907378" y="116104"/>
                </a:lnTo>
                <a:lnTo>
                  <a:pt x="1907378" y="464416"/>
                </a:lnTo>
                <a:lnTo>
                  <a:pt x="0" y="464416"/>
                </a:lnTo>
                <a:lnTo>
                  <a:pt x="0" y="33907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82" name="Connecteur droit avec flèche 42"/>
          <p:cNvCxnSpPr/>
          <p:nvPr/>
        </p:nvCxnSpPr>
        <p:spPr>
          <a:xfrm>
            <a:off x="172800" y="1560240"/>
            <a:ext cx="19800" cy="1470240"/>
          </a:xfrm>
          <a:prstGeom prst="straightConnector1">
            <a:avLst/>
          </a:prstGeom>
          <a:ln w="255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83" name="ZoneTexte 43"/>
          <p:cNvSpPr/>
          <p:nvPr/>
        </p:nvSpPr>
        <p:spPr>
          <a:xfrm>
            <a:off x="136440" y="1182600"/>
            <a:ext cx="157176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-contrôl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Rectangle 51"/>
          <p:cNvSpPr/>
          <p:nvPr/>
        </p:nvSpPr>
        <p:spPr>
          <a:xfrm>
            <a:off x="19080" y="3030480"/>
            <a:ext cx="338040" cy="181080"/>
          </a:xfrm>
          <a:prstGeom prst="rect">
            <a:avLst/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210960" y="1916280"/>
            <a:ext cx="8676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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Se présenter 30 minutes avant le début des pesées pour 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Verdana"/>
              </a:rPr>
              <a:t>S’inscrir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Verdana"/>
              </a:rPr>
              <a:t>Installer le matériel (moquette, table, ordinateur, écran, …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Verdana"/>
              </a:rPr>
              <a:t>Préparer la pesée (table, chaise, petit briefing d’avant pesée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Une fois la pesée terminée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34784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Verdana"/>
              </a:rPr>
              <a:t>Dernier tour de la salle pour vérifier que tout est prê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34784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Verdana"/>
              </a:rPr>
              <a:t>Briefing avec les arbitres et répartition sur les tapi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34784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Verdana"/>
              </a:rPr>
              <a:t>Début de la compéti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08000" y="977760"/>
            <a:ext cx="892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99"/>
                </a:solidFill>
                <a:latin typeface="Verdana"/>
              </a:rPr>
              <a:t>Le travail du commissaire sporti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DTSI/DTR</cp:lastModifiedBy>
  <dcterms:modified xsi:type="dcterms:W3CDTF">2023-10-14T10:13:41Z</dcterms:modified>
  <cp:revision>129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9b1573e3-d99b-4eb7-971f-833ac185d538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41:07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