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E126-9FDE-4066-BBC5-F8276AD19F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C778-64DA-42FA-9F13-78B6526DDB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3CE5-2CA5-4990-B268-5157628404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0399-7DBC-4F4A-9AFD-FFEC0212CA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C458-E176-497F-998A-F1C1A293A6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6164-1664-416B-BA00-54938CB53F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2"/>
          <p:cNvGrpSpPr/>
          <p:nvPr/>
        </p:nvGrpSpPr>
        <p:grpSpPr>
          <a:xfrm>
            <a:off x="-6480" y="-23760"/>
            <a:ext cx="9144000" cy="981000"/>
            <a:chOff x="-6480" y="-23760"/>
            <a:chExt cx="9144000" cy="981000"/>
          </a:xfrm>
        </p:grpSpPr>
        <p:pic>
          <p:nvPicPr>
            <p:cNvPr id="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2052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-23760"/>
              <a:ext cx="9144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" name="Rectangle 11"/>
          <p:cNvSpPr/>
          <p:nvPr/>
        </p:nvSpPr>
        <p:spPr>
          <a:xfrm>
            <a:off x="2685960" y="6551640"/>
            <a:ext cx="3895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04000" y="6541920"/>
            <a:ext cx="1905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3778-28DD-4EAB-8300-4B26BA196D95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2824200" y="438120"/>
            <a:ext cx="361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aison 2023 – 202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" name="Graphique 5" descr=""/>
          <p:cNvPicPr/>
          <p:nvPr/>
        </p:nvPicPr>
        <p:blipFill>
          <a:blip r:embed="rId3"/>
          <a:stretch/>
        </p:blipFill>
        <p:spPr>
          <a:xfrm>
            <a:off x="324000" y="285840"/>
            <a:ext cx="803160" cy="409320"/>
          </a:xfrm>
          <a:prstGeom prst="rect">
            <a:avLst/>
          </a:prstGeom>
          <a:ln w="0">
            <a:noFill/>
          </a:ln>
        </p:spPr>
      </p:pic>
      <p:pic>
        <p:nvPicPr>
          <p:cNvPr id="7" name="Image 21" descr=""/>
          <p:cNvPicPr/>
          <p:nvPr/>
        </p:nvPicPr>
        <p:blipFill>
          <a:blip r:embed="rId4"/>
          <a:stretch/>
        </p:blipFill>
        <p:spPr>
          <a:xfrm>
            <a:off x="8140680" y="155520"/>
            <a:ext cx="852480" cy="604800"/>
          </a:xfrm>
          <a:prstGeom prst="rect">
            <a:avLst/>
          </a:prstGeom>
          <a:ln w="0">
            <a:noFill/>
          </a:ln>
        </p:spPr>
      </p:pic>
      <p:grpSp>
        <p:nvGrpSpPr>
          <p:cNvPr id="8" name="Rectangle 20"/>
          <p:cNvGrpSpPr/>
          <p:nvPr/>
        </p:nvGrpSpPr>
        <p:grpSpPr>
          <a:xfrm>
            <a:off x="0" y="6765840"/>
            <a:ext cx="9144000" cy="92160"/>
            <a:chOff x="0" y="6765840"/>
            <a:chExt cx="9144000" cy="92160"/>
          </a:xfrm>
        </p:grpSpPr>
        <p:pic>
          <p:nvPicPr>
            <p:cNvPr id="9" name="Rectangle 20" descr=""/>
            <p:cNvPicPr/>
            <p:nvPr/>
          </p:nvPicPr>
          <p:blipFill>
            <a:blip r:embed="rId5"/>
            <a:stretch/>
          </p:blipFill>
          <p:spPr>
            <a:xfrm>
              <a:off x="0" y="6765840"/>
              <a:ext cx="914400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6769080"/>
              <a:ext cx="91440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ZoneTexte 21"/>
          <p:cNvSpPr/>
          <p:nvPr/>
        </p:nvSpPr>
        <p:spPr>
          <a:xfrm>
            <a:off x="2678040" y="32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395280" y="270972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6699"/>
                </a:solidFill>
                <a:latin typeface="Arial Black"/>
              </a:rPr>
              <a:t>DEROULEMENT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6699"/>
                </a:solidFill>
                <a:latin typeface="Arial Black"/>
              </a:rPr>
              <a:t>d’un COMBAT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"/>
          <p:cNvSpPr/>
          <p:nvPr/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99"/>
                </a:solidFill>
                <a:latin typeface="Verdana"/>
              </a:rPr>
              <a:t>Organisation de la t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311040" y="2709720"/>
            <a:ext cx="86407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es commissaires sportifs se répartissent sur la table afin d’occuper chacun des postes.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Ils forment </a:t>
            </a:r>
            <a:r>
              <a:rPr b="0" lang="fr-FR" sz="1800" spc="-1" strike="noStrike" u="sng">
                <a:solidFill>
                  <a:srgbClr val="ff0000"/>
                </a:solidFill>
                <a:uFillTx/>
                <a:latin typeface="Verdana"/>
              </a:rPr>
              <a:t>une équipe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Vous allez passer la journée ensembl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N’hésitez pas à vous présenter les un les autres, ne serait ce que pour connaitre vos prénoms respectifs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Pour passez une bonne journé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Travailler efficacemen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E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n cas de besoin, désaccord, doute sur un point de règlement, les évaluateurs et/ou membre de la commission sont la pour vous aider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44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99"/>
                </a:solidFill>
                <a:latin typeface="Verdana"/>
              </a:rPr>
              <a:t>Appel des combatt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24000" y="2281320"/>
            <a:ext cx="856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e combattant appelé en premier prend la ceinture roug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89080" y="32148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N’annoncez que le Nom de Famille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(Pas le prénom sauf exception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24000" y="4264200"/>
            <a:ext cx="856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Ne pas couper la parole à quelqu’un d’autre déjà au micr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764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99"/>
                </a:solidFill>
                <a:latin typeface="Verdana"/>
              </a:rPr>
              <a:t>Comment s’y prendre 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79280" y="2131920"/>
            <a:ext cx="882036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Préparer</a:t>
            </a: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votre appel (lisez les noms des combattants avant de les appeler au micro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Parler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fort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et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distinctement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e pas parler trop vit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S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’assurer que les combattants ont entendu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S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’assurer que le 1er combattant appelé prend bien la ceinture roug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la fin de chaque combat 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annoncer le vainqueur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44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99"/>
                </a:solidFill>
                <a:latin typeface="Verdana"/>
              </a:rPr>
              <a:t>Appel des combatt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684360" y="4141800"/>
            <a:ext cx="7777080" cy="863640"/>
          </a:xfrm>
          <a:prstGeom prst="wedgeEllipseCallout">
            <a:avLst>
              <a:gd name="adj1" fmla="val -35740"/>
              <a:gd name="adj2" fmla="val -75245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« Tapis n° …, catégorie …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se prépare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  combattant C, combattant D. 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1258920" y="2421000"/>
            <a:ext cx="7129440" cy="1008000"/>
          </a:xfrm>
          <a:prstGeom prst="wedgeEllipseCallout">
            <a:avLst>
              <a:gd name="adj1" fmla="val -41856"/>
              <a:gd name="adj2" fmla="val -55125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« Tapis n° …, catégorie …,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se présente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 combattant A, combattant B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24000" y="1990800"/>
            <a:ext cx="882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u 1er combat, le commissaire sportif annonce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000" y="4284720"/>
            <a:ext cx="882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Espacer vos appels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(se présente, se prépare)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ttendez que « se présente » soit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sur le tapis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avant d’annoncer « se prépare 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24000" y="3573360"/>
            <a:ext cx="88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endant le premier combat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24000" y="5005440"/>
            <a:ext cx="882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remier combat terminé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684360" y="5437080"/>
            <a:ext cx="7777080" cy="1087560"/>
          </a:xfrm>
          <a:prstGeom prst="wedgeEllipseCallout">
            <a:avLst>
              <a:gd name="adj1" fmla="val -42162"/>
              <a:gd name="adj2" fmla="val -5917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Arial"/>
              </a:rPr>
              <a:t>« Tapis n° …, catégorie …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ainqueur</a:t>
            </a:r>
            <a:r>
              <a:rPr b="0" lang="fr-FR" sz="1800" spc="-1" strike="noStrike">
                <a:solidFill>
                  <a:srgbClr val="006699"/>
                </a:solidFill>
                <a:latin typeface="Arial"/>
              </a:rPr>
              <a:t> Combattant B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se présente</a:t>
            </a:r>
            <a:r>
              <a:rPr b="0" lang="fr-FR" sz="1800" spc="-1" strike="noStrike">
                <a:solidFill>
                  <a:srgbClr val="006699"/>
                </a:solidFill>
                <a:latin typeface="Arial"/>
              </a:rPr>
              <a:t> combattant C, combattant D. 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99"/>
                </a:solidFill>
                <a:latin typeface="Verdana"/>
              </a:rPr>
              <a:t>Appel des combatt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24000" y="1844640"/>
            <a:ext cx="84960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es annonces en phase finale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Demi-finale et place de 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AutoShape 6" descr=""/>
          <p:cNvPicPr/>
          <p:nvPr/>
        </p:nvPicPr>
        <p:blipFill>
          <a:blip r:embed="rId1"/>
          <a:stretch/>
        </p:blipFill>
        <p:spPr>
          <a:xfrm>
            <a:off x="822240" y="2627280"/>
            <a:ext cx="7645320" cy="1451160"/>
          </a:xfrm>
          <a:prstGeom prst="rect">
            <a:avLst/>
          </a:prstGeom>
          <a:ln w="0">
            <a:noFill/>
          </a:ln>
        </p:spPr>
      </p:pic>
      <p:pic>
        <p:nvPicPr>
          <p:cNvPr id="75" name="AutoShape 6" descr=""/>
          <p:cNvPicPr/>
          <p:nvPr/>
        </p:nvPicPr>
        <p:blipFill>
          <a:blip r:embed="rId2"/>
          <a:stretch/>
        </p:blipFill>
        <p:spPr>
          <a:xfrm>
            <a:off x="1000080" y="4071960"/>
            <a:ext cx="7143840" cy="1298520"/>
          </a:xfrm>
          <a:prstGeom prst="rect">
            <a:avLst/>
          </a:prstGeom>
          <a:ln w="0">
            <a:noFill/>
          </a:ln>
        </p:spPr>
      </p:pic>
      <p:pic>
        <p:nvPicPr>
          <p:cNvPr id="76" name="AutoShape 6" descr=""/>
          <p:cNvPicPr/>
          <p:nvPr/>
        </p:nvPicPr>
        <p:blipFill>
          <a:blip r:embed="rId3"/>
          <a:stretch/>
        </p:blipFill>
        <p:spPr>
          <a:xfrm>
            <a:off x="1000080" y="5376960"/>
            <a:ext cx="7143840" cy="1157040"/>
          </a:xfrm>
          <a:prstGeom prst="rect">
            <a:avLst/>
          </a:prstGeom>
          <a:ln w="0">
            <a:noFill/>
          </a:ln>
        </p:spPr>
      </p:pic>
      <p:sp>
        <p:nvSpPr>
          <p:cNvPr id="77" name="Connecteur droit 3"/>
          <p:cNvSpPr/>
          <p:nvPr/>
        </p:nvSpPr>
        <p:spPr>
          <a:xfrm>
            <a:off x="0" y="4049640"/>
            <a:ext cx="9144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24000" y="1844640"/>
            <a:ext cx="849600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es annonces en phase finale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Final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44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99"/>
                </a:solidFill>
                <a:latin typeface="Verdana"/>
              </a:rPr>
              <a:t>Appel des combatt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755640" y="2563920"/>
            <a:ext cx="7632720" cy="1942920"/>
          </a:xfrm>
          <a:prstGeom prst="wedgeEllipseCallout">
            <a:avLst>
              <a:gd name="adj1" fmla="val -38546"/>
              <a:gd name="adj2" fmla="val -4900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« Tapis n°3, se présente pour la finale catégorie féminine – de 63 kg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DICINTO Maëlle, US ORLEANS LOIRET,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PREVOT Inès, ESBM JUD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755640" y="4581360"/>
            <a:ext cx="7632720" cy="1800360"/>
          </a:xfrm>
          <a:prstGeom prst="wedgeEllipseCallout">
            <a:avLst>
              <a:gd name="adj1" fmla="val -38546"/>
              <a:gd name="adj2" fmla="val -4900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« Tapis n°3, champion de France 1° division 2023 catégorie féminine – de 63 kg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DICINTO Maëlle, US ORLEANS LOIRET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DTSI/DTR</cp:lastModifiedBy>
  <dcterms:modified xsi:type="dcterms:W3CDTF">2023-10-14T11:38:58Z</dcterms:modified>
  <cp:revision>122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71ceacd9-8c40-4292-8246-13881d656d68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42:28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