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D0F-FBBE-45F0-BA18-4F639C8655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32C-5184-46CF-BC39-A3FF88B1F0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D41-D077-4D25-B58E-9251D14E4C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1DD-6544-4C0C-AF75-8EA2D4DC70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DB16-02FA-4811-88AA-E2C9CAC0886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20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20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1"/>
          <p:cNvSpPr/>
          <p:nvPr/>
        </p:nvSpPr>
        <p:spPr>
          <a:xfrm>
            <a:off x="2678040" y="324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notation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s poin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9"/>
          <p:cNvSpPr/>
          <p:nvPr/>
        </p:nvSpPr>
        <p:spPr>
          <a:xfrm>
            <a:off x="71280" y="2133720"/>
            <a:ext cx="89647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a notation des </a:t>
            </a:r>
            <a:r>
              <a:rPr b="0" lang="fr-FR" sz="2000" spc="-1" strike="noStrike" u="sng">
                <a:solidFill>
                  <a:srgbClr val="006699"/>
                </a:solidFill>
                <a:uFillTx/>
                <a:latin typeface="Verdana"/>
              </a:rPr>
              <a:t>point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est uniquement utilisée dans les combats en </a:t>
            </a:r>
            <a:r>
              <a:rPr b="0" lang="fr-FR" sz="2000" spc="-1" strike="noStrike" u="sng">
                <a:solidFill>
                  <a:srgbClr val="006699"/>
                </a:solidFill>
                <a:uFillTx/>
                <a:latin typeface="Verdana"/>
              </a:rPr>
              <a:t>poul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, pour effectuer le classement des combatta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s avantages et pénalités des 2 combattants sont convertis en poin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s points du perdant sont également comptabilisé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10 / 01 </a:t>
            </a:r>
            <a:r>
              <a:rPr b="0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le vainqueur à 10 points. Le vaincu obtiendra 1 poi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2 / 01 </a:t>
            </a:r>
            <a:r>
              <a:rPr b="0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vainqueur à 10 points. Le vaincu obtiendra 1 poi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0.1 / 00.2 </a:t>
            </a:r>
            <a:r>
              <a:rPr b="0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(décision) les 2 combattants auront 0 point</a:t>
            </a:r>
            <a:br>
              <a:rPr sz="1800"/>
            </a:b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1 / 00 </a:t>
            </a:r>
            <a:r>
              <a:rPr b="0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1 point pour le vainqueu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98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98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701720"/>
          <a:ext cx="8351640" cy="3963960"/>
        </p:xfrm>
        <a:graphic>
          <a:graphicData uri="http://schemas.openxmlformats.org/drawingml/2006/table">
            <a:tbl>
              <a:tblPr/>
              <a:tblGrid>
                <a:gridCol w="2592360"/>
                <a:gridCol w="863640"/>
                <a:gridCol w="431640"/>
                <a:gridCol w="3888000"/>
                <a:gridCol w="57600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DE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2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IK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band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US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rfa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(2K) / 00(1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.2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SH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Nathalie Rouinsard</cp:lastModifiedBy>
  <dcterms:modified xsi:type="dcterms:W3CDTF">2023-11-11T06:52:08Z</dcterms:modified>
  <cp:revision>12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a9d2d814-76cf-4f8e-8235-94736e023a6c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4:01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